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4F4A9-FC7A-453A-913A-4ACE511C91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BBF52-C1A5-40AB-82FC-EC1DD6166C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F55BA-4DCB-4A84-9350-29A6CEE4B3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311E8-262A-47F8-AA3C-6C3A7E8E5E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A1E78-680F-4E27-88D2-58CCA6F8D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D0CAA-1E3A-40A5-8D3F-EA622B330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9FDB3B-4C8F-4D70-BF4C-F29590A12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5F0A4E-1671-4763-A537-96057253B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8DD02C-ACD1-448B-87C0-4C13E429D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05218B-1F6C-4BDF-B722-2018311A9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00D64B-467B-4D35-B5AA-A57088A2C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294DEF-C547-4580-856D-C9EB096B2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2BD1D5-F245-4AFB-8F81-EDABB0567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092F18-074E-4618-9DBC-3E91EF6FA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4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5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585FEA-2782-4D4D-B274-B5E17CBB8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FB6AB5-71E5-4A42-87F0-EF99820F2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1CCCF-CF2A-4AD5-A127-9F165107E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96284B-C0D5-4E33-8E03-F19961375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47EE00-2707-492E-A943-01ECA0C8C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ED699C-15F6-474A-A0EA-5620C57C3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471738-72D6-4754-89EC-C109B5B97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309FF2-CA2E-4A9C-9C8D-6E728422F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42C014-5ED1-4953-9975-49D49AE5B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9B522A-7DB8-482F-8FAF-89C886B24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6D1D19-1DD1-4727-8C08-C91A54EB3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9D5481-AC8C-4171-AAEE-4E814C2F3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0C3B4F-1279-457D-9AC5-764D8B856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6FE8C-F9D5-4567-9E91-B097FED40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AC9928-0D19-4ECC-84F2-F4202CCDB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CBD9D3-1FC3-4E32-85BC-5CF4D9C5D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4AAA9F-BF6F-4217-B0C7-E9A7838F5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8D7E39-C4B0-4A0C-A75B-0783B08C8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396622-6D59-46F8-A06B-8D1ADC768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03E376-DF57-458D-BEB6-AD801FE9F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F1BAEE-1388-451B-B2FA-CA4D53C54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DB7941-D8EE-4780-BF32-7DB3FD457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02267D-805D-4E69-B467-537FADB4B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613387-64A6-4058-8DEF-3D7F34E6A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93598-E66C-4F0E-8AC1-9AD08ACB1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F00715-38A2-4CAC-9F11-24762DB87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060C95-33E9-4E8B-972E-2F5B1E0E4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F23CEF-CD2E-44C6-BD24-1F4E1FD9E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7585D7-C9D8-43FC-968D-E04BF9BB0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D08C15-0813-4A45-974A-0339AF92E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DE0681-38CB-4FF8-9A86-A5895714C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64A68E-7870-4662-BDED-F311C3E83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52881E-0D94-497C-BE35-05A3E4E1A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18AC88-EA9F-49BA-8283-26DF2364D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9242C4-224E-4CC2-9983-64730D223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29FA5-B005-4266-AED1-CC173617E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90F919-1C63-49A2-A43B-04D5D4CB3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65CE5A-4C43-48EE-9A8C-23258906E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FA8ADA-8B9B-45A2-8AD1-3A19D4BF7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567E7A-CEB7-4F5C-90DF-0F6060CCA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B1B139-60D2-4DE1-8F6C-7FE88DF5A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B9E2D-F0E0-485C-BC1F-A9BE9297C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41146-ECDD-4B6E-81FD-E47429AC5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EB0B7-B65B-419D-AB19-F08366AF3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666D7-9A42-4783-9604-9D91104AF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25BF6-BBE8-4807-A700-59954D94B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D06E0-5538-4681-B6F5-110811854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089A1-E6E6-4BA2-A5FD-1EECF87FA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B15B1-8888-4CB8-BCC1-3981E0D1A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72DA4-9B8E-4A85-922C-E25D98B83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1400D-9F46-4BD6-AFD8-4C6B9D2C9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6E62E-F88A-4CCF-9A6D-97D11FC79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1A2DBE-536E-4AB3-86AF-14179F797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B1E68F-D5DB-4C7E-A897-EF8FF32D5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F149EB-B2ED-429B-972E-587ADD728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5766BB-7A09-4363-87E2-6DD641D37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DE23DB-5821-4B48-AF27-AB38C57D3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5AA47-8257-41B7-BED2-8B5EFF20B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653338-A364-4DD2-9D95-A49FEB93A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2363BE-97BD-4586-8A14-1B6F35F10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F7BF87-F7FE-44BF-A2FE-6880D3BCC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D632DC-EB7D-46C8-A7D6-D6BA7BE0D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FAEA4B-09E8-49A1-AE97-01E057ABC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E8440B-F23F-443A-9782-DE68FDA7E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05282B-61D8-4BCC-A5E7-B0D991D91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9D6B8F-A6AF-4D57-B740-9C6F62C98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9FEE5E-EA87-48D3-B4FC-B51204FC4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6C292F-A962-4505-92EC-B4DE15885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BBCC2-0C98-4AA6-8D56-B02518E58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70DD42-259D-4BA1-807F-C779E8959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EB3B15-DDDD-4694-ABF1-78192DFCE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9CE731-D82C-4790-A4E4-42E75F4AF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9BBECE-A127-4B79-8441-551021AB2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B94050-2A00-4165-848E-A9D9AF0F1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AE711A-FB42-49BD-B9BF-AC0C8A3DF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7EB113-3814-406B-BACE-130709830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BD30F3-8DBB-4BE4-8DA4-6E17AABF2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8E51C4-5F8C-4D7F-B5E9-097FD7D70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1016E9-2937-4947-BD9F-F109A3F00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2F3A7-0991-45F2-9DD5-40AB6FD41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3B1881-34FC-4C95-8A93-D1AAD6EFD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F7BCEB-AE50-43E7-A3C0-740F1253F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5DF960-2F24-477B-B822-863D6E573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315D98-153B-425B-AAD0-BE8C1AAA3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7C5CF7-C835-4641-A2B9-E1FC1CF74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4A82DC-0021-413F-984E-F02883642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5C8D72-9BC0-4055-B830-C33278377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6D673C-B17F-4170-9DC9-89032803D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2DE9E4-C02D-4139-8898-33A5AAFAB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B170F3-3701-4C24-9D3B-2F6B50971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DFA44-5381-4635-A53F-44414A0C9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87AA19-8A40-4818-8C72-7D4216D84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02FFE0-BB86-4F9B-AF94-CD69F277C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5FEB10-26F8-4ABD-B728-06305FA8A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F5BCA6-4B31-4B9E-B992-914435227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FD9392-DD90-4E43-A501-4899D575E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6D9F7E-8BBC-4745-9D9C-7185E4F05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4BB8CB-7D6D-478C-9ECD-14320B430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E0959D-3C68-4F52-A08C-2EFCA11B6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A643CC-F872-414E-88DA-58885632F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1BC249-DE52-4CD8-97C5-ED5FCD40C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6805D-D3B0-40A2-81A4-C5D26E554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98C18F-4190-4F77-8A27-BE87E3DF9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5DEA6E-212A-4A2F-8C5F-9EC4409F1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2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BDFA0E-CB0E-411A-8878-5A97AD33B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B43DE8-B74E-4AA1-96FE-37BDC2CEA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EEB2FE-EB84-476F-8E1C-BDB6F41DF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A3EF06-F1C0-4206-97F6-F505F42A3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ABA769-8705-49F6-AF3B-5F233E0EC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D84168-941D-4D98-9FE0-453F5618B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EDB164-8982-4F70-A19C-4BEB3BCBB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0D321F-52D4-4344-BD1B-00F022723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5E775-EADF-42AE-A219-051AADC05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0469E4-A7CC-4E42-A279-673DEEC32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74B65D-2FC2-400E-B361-9D16B9939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D0EFC1-BCB4-491F-9D9E-92B5651F0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16B58A-E1C9-4DA7-BA34-A4F315ECD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564CED-8F80-40F4-9E34-A207B2B8F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BBE520-4B2D-4E41-B8F7-11035E83D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20DB93-62A6-4F00-A916-1FD363BB5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34CCAD-BECC-44A0-B35C-3D58F4286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C5E813-4A16-4407-8546-8BEE62B27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D256FD-4571-46D1-941A-1F4F61731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4BEB6-FDA3-4804-8AAE-CB1214D2C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3F22B9-D9D4-4F19-A380-43D352F3D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E86491-5AFF-441C-864A-6C3E390BA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0F86D6-4705-43A3-8EDB-E3B2366D1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A15FA4-154E-46B9-BEEA-E5BD6F15C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A005B2-2DD4-4951-AED9-3A7D5609D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54DBFA-3F9E-453F-B7FF-BDAE80B19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3F5203-E8D6-4F3F-9584-54A4BA662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11A13D-50AC-42F9-98E8-F69A8B5C7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EAA258-3AEC-430C-9141-8286F81A1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08C5B2-2194-445E-85FF-B845EA76A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765EC-A631-475E-B154-539672EE2EC3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6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417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8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9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dt" idx="28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 type="ftr" idx="29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 type="sldNum" idx="30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46894-82CE-4CC6-82B2-865C9496707F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4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465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7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 type="dt" idx="3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 type="ftr" idx="3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 type="sldNum" idx="3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A0BBD-63DE-4548-A24F-62DA8EC26EEF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 type="dt" idx="3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 type="ftr" idx="3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 type="sldNum" idx="3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D7981-3C5D-4134-988D-6CD585550C7E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1BBAF-0F6C-4B68-9863-CF3D5F05A072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10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D6928-BF77-4E0C-807D-7718EF650686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51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53709-7017-4541-801B-4FD3BE6513AA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198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0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E81BE-1E92-4D3E-A7F3-B14B60D06BD8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6FF29-6283-4FDE-A6AC-2511AB201464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287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8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9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AFE24-54E2-4FE1-83BC-2488250105B4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dt" idx="22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 type="ftr" idx="23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 type="sldNum" idx="24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F3FE2-E8F5-4F67-8D53-919E7A18CB74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dt" idx="25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ftr" idx="26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 type="sldNum" idx="27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D0FC1-DC7B-42EA-B5B5-0F40F90E18A3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30592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r" pos="2425680"/>
                <a:tab algn="r" pos="2959200"/>
                <a:tab algn="r" pos="5931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03030"/>
                </a:solidFill>
                <a:latin typeface="Times New Roman"/>
                <a:ea typeface="Times New Roman"/>
              </a:rPr>
              <a:t>Министерство образования, науки и  инновационной политики </a:t>
            </a:r>
            <a:br>
              <a:rPr sz="1400"/>
            </a:br>
            <a:r>
              <a:rPr b="1" lang="ru-RU" sz="1400" spc="-1" strike="noStrike">
                <a:solidFill>
                  <a:srgbClr val="303030"/>
                </a:solidFill>
                <a:latin typeface="Times New Roman"/>
                <a:ea typeface="Times New Roman"/>
              </a:rPr>
              <a:t>Новосибирской области</a:t>
            </a:r>
            <a:br>
              <a:rPr sz="1400"/>
            </a:br>
            <a:r>
              <a:rPr b="1" lang="ru-RU" sz="1400" spc="-1" strike="noStrike">
                <a:solidFill>
                  <a:srgbClr val="303030"/>
                </a:solidFill>
                <a:latin typeface="Times New Roman"/>
                <a:ea typeface="Times New Roman"/>
              </a:rPr>
              <a:t>Государственное бюджетное профессиональное образовательное учреждение</a:t>
            </a:r>
            <a:br>
              <a:rPr sz="1400"/>
            </a:br>
            <a:r>
              <a:rPr b="1" lang="ru-RU" sz="1400" spc="-1" strike="noStrike">
                <a:solidFill>
                  <a:srgbClr val="303030"/>
                </a:solidFill>
                <a:latin typeface="Times New Roman"/>
                <a:ea typeface="Times New Roman"/>
              </a:rPr>
              <a:t>Новосибирской области </a:t>
            </a:r>
            <a:br>
              <a:rPr sz="1400"/>
            </a:br>
            <a:r>
              <a:rPr b="1" lang="ru-RU" sz="1400" spc="-1" strike="noStrike">
                <a:solidFill>
                  <a:srgbClr val="303030"/>
                </a:solidFill>
                <a:latin typeface="Times New Roman"/>
                <a:ea typeface="Times New Roman"/>
              </a:rPr>
              <a:t>«НОВОСИБИРСКИЙ ПРОФЕССИОНАЛЬНО-ПЕДАГОГИЧЕСКИЙ КОЛЛЕДЖ»</a:t>
            </a:r>
            <a:endParaRPr b="0" lang="en-US" sz="1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subTitle"/>
          </p:nvPr>
        </p:nvSpPr>
        <p:spPr>
          <a:xfrm>
            <a:off x="6019560" y="5562720"/>
            <a:ext cx="2819160" cy="9144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20e04"/>
                </a:solidFill>
                <a:latin typeface="Corbel"/>
              </a:rPr>
              <a:t>Мельниченко А.Ю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7" name="Прямоугольник 1"/>
          <p:cNvSpPr/>
          <p:nvPr/>
        </p:nvSpPr>
        <p:spPr>
          <a:xfrm>
            <a:off x="380880" y="3013200"/>
            <a:ext cx="8305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изитная карточка Мастера Производственного Обуч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"/>
          <p:cNvSpPr txBox="1"/>
          <p:nvPr/>
        </p:nvSpPr>
        <p:spPr>
          <a:xfrm>
            <a:off x="914400" y="137160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На учебной практике по ПМ 01.01 я изучала базу MY SQL и изучала язык программирования PHP.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На учебной практике по ПМ 04.01 я научилась создавать техническую документацию для программных продуктов.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На учебной практике по ПМ 04.01 я научилась разрабатывать урок производственного обучения. 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"/>
          <p:cNvSpPr txBox="1"/>
          <p:nvPr/>
        </p:nvSpPr>
        <p:spPr>
          <a:xfrm>
            <a:off x="914400" y="1523880"/>
            <a:ext cx="73152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производственной  практике по ПМ 01 я применяла свои педагогические навыки и знания в работе с детьми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производственной практике по ПМ 02 я осуществляла наблюдение за и анализировала поведение студентов поступающих в мой колледж, применяя знания по психологии и педагогике.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учебной практике по ПМ 05 я закрепляла знания по написанию сайтов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производственной  практике по ПМ 05 я создавала элементы брендбука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Прямоугольник 3"/>
          <p:cNvSpPr/>
          <p:nvPr/>
        </p:nvSpPr>
        <p:spPr>
          <a:xfrm>
            <a:off x="762120" y="990720"/>
            <a:ext cx="800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урсовые проект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Прямоугольник 4"/>
          <p:cNvSpPr/>
          <p:nvPr/>
        </p:nvSpPr>
        <p:spPr>
          <a:xfrm>
            <a:off x="914400" y="1828800"/>
            <a:ext cx="7620120" cy="369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766800"/>
                <a:tab algn="l" pos="1533600"/>
                <a:tab algn="l" pos="2300400"/>
                <a:tab algn="l" pos="3067200"/>
                <a:tab algn="l" pos="3833640"/>
                <a:tab algn="l" pos="4600440"/>
                <a:tab algn="l" pos="5367240"/>
                <a:tab algn="l" pos="6134040"/>
                <a:tab algn="l" pos="6900840"/>
                <a:tab algn="l" pos="7667640"/>
                <a:tab algn="l" pos="8434440"/>
                <a:tab algn="l" pos="9201240"/>
                <a:tab algn="l" pos="9968040"/>
                <a:tab algn="l" pos="107348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ДК 04.0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766800"/>
                <a:tab algn="l" pos="1533600"/>
                <a:tab algn="l" pos="2300400"/>
                <a:tab algn="l" pos="3067200"/>
                <a:tab algn="l" pos="3833640"/>
                <a:tab algn="l" pos="4600440"/>
                <a:tab algn="l" pos="5367240"/>
                <a:tab algn="l" pos="6134040"/>
                <a:tab algn="l" pos="6900840"/>
                <a:tab algn="l" pos="7667640"/>
                <a:tab algn="l" pos="8434440"/>
                <a:tab algn="l" pos="9201240"/>
                <a:tab algn="l" pos="9968040"/>
                <a:tab algn="l" pos="107348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астие в организации технологического процесса разработки программного обеспечения на примере создания динамического web-сайта гостиничного комплек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766800"/>
                <a:tab algn="l" pos="1533600"/>
                <a:tab algn="l" pos="2300400"/>
                <a:tab algn="l" pos="3067200"/>
                <a:tab algn="l" pos="3833640"/>
                <a:tab algn="l" pos="4600440"/>
                <a:tab algn="l" pos="5367240"/>
                <a:tab algn="l" pos="6134040"/>
                <a:tab algn="l" pos="6900840"/>
                <a:tab algn="l" pos="7667640"/>
                <a:tab algn="l" pos="8434440"/>
                <a:tab algn="l" pos="9201240"/>
                <a:tab algn="l" pos="9968040"/>
                <a:tab algn="l" pos="107348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766800"/>
                <a:tab algn="l" pos="1533600"/>
                <a:tab algn="l" pos="2300400"/>
                <a:tab algn="l" pos="3067200"/>
                <a:tab algn="l" pos="3833640"/>
                <a:tab algn="l" pos="4600440"/>
                <a:tab algn="l" pos="5367240"/>
                <a:tab algn="l" pos="6134040"/>
                <a:tab algn="l" pos="6900840"/>
                <a:tab algn="l" pos="7667640"/>
                <a:tab algn="l" pos="8434440"/>
                <a:tab algn="l" pos="9201240"/>
                <a:tab algn="l" pos="9968040"/>
                <a:tab algn="l" pos="107348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ДК 01.0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766800"/>
                <a:tab algn="l" pos="1533600"/>
                <a:tab algn="l" pos="2300400"/>
                <a:tab algn="l" pos="3067200"/>
                <a:tab algn="l" pos="3833640"/>
                <a:tab algn="l" pos="4600440"/>
                <a:tab algn="l" pos="5367240"/>
                <a:tab algn="l" pos="6134040"/>
                <a:tab algn="l" pos="6900840"/>
                <a:tab algn="l" pos="7667640"/>
                <a:tab algn="l" pos="8434440"/>
                <a:tab algn="l" pos="9201240"/>
                <a:tab algn="l" pos="9968040"/>
                <a:tab algn="l" pos="107348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работка методического указания по теме: «Типы принтеров и их установк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09680" y="456840"/>
            <a:ext cx="5562720" cy="19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2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ru-RU" sz="3600" spc="-1" strike="noStrike">
                <a:solidFill>
                  <a:srgbClr val="572314"/>
                </a:solidFill>
                <a:latin typeface="Corbel"/>
              </a:rPr>
              <a:t>Пояснительная записка.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5486040" y="1828800"/>
            <a:ext cx="30481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Corbel"/>
              </a:rPr>
              <a:t>2004-2013г. МКОУ Утянская СОШ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Corbel"/>
              </a:rPr>
              <a:t>2013-2018г. г. Новосибирский Профессионально-Педагогический Колледж 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Corbel"/>
              </a:rPr>
              <a:t>по специальности: 44.02.06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Corbel"/>
              </a:rPr>
              <a:t>Профессиональное обучение (по отраслям) 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Corbel"/>
              </a:rPr>
              <a:t>со специализацией: 09.02.03 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Corbel"/>
              </a:rPr>
              <a:t>Программирование в компьютерных системах.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Corbel"/>
              </a:rPr>
              <a:t>Квалификация: 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Corbel"/>
              </a:rPr>
              <a:t>Мастер производственного обучения, техник-программист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70" name="Picture 4" descr="C:\Users\студент-204\Desktop\C5noALvg2-A.jpg"/>
          <p:cNvPicPr/>
          <p:nvPr/>
        </p:nvPicPr>
        <p:blipFill>
          <a:blip r:embed="rId1"/>
          <a:stretch/>
        </p:blipFill>
        <p:spPr>
          <a:xfrm>
            <a:off x="1066680" y="1752480"/>
            <a:ext cx="4038840" cy="488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"/>
          <p:cNvSpPr txBox="1"/>
          <p:nvPr/>
        </p:nvSpPr>
        <p:spPr>
          <a:xfrm>
            <a:off x="1904760" y="838080"/>
            <a:ext cx="69339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Область профессиональной деятельности меня как мастера ПО:  это совокупность методов и средств для разработки, сопровождения и эксплуатации программного обеспечения компьютерных систем.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        </a:t>
            </a: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Объектами моей профессиональной деятельности являются: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indent="449280">
              <a:lnSpc>
                <a:spcPct val="100000"/>
              </a:lnSpc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компьютерные системы; автоматизированные системы обработки информации и управления;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indent="449280">
              <a:lnSpc>
                <a:spcPct val="100000"/>
              </a:lnSpc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программное обеспечение компьютерных систем (программы, программные комплексы и системы); математическое, информационное, техническое, эргономическое, организационное и правовое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indent="449280">
              <a:lnSpc>
                <a:spcPct val="100000"/>
              </a:lnSpc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обеспечение компьютерных систем; первичные трудовые коллективы.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         </a:t>
            </a: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Как техник-программист я разрабатываю программные модули программного обеспечения для компьютерных систем.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        </a:t>
            </a: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Разрабатываю и администрирую базы данных.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        </a:t>
            </a: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Участвую в интеграции программных модулей.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        </a:t>
            </a: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Выполняю работы по одной или нескольким профессиям рабочих, должностям служащих ( приложение к настоящему ФГОС СПО).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"/>
          <p:cNvSpPr txBox="1"/>
          <p:nvPr/>
        </p:nvSpPr>
        <p:spPr>
          <a:xfrm>
            <a:off x="914040" y="762120"/>
            <a:ext cx="792468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, как Мастер производственного обучения – педагогический работник, который работаю в заведении начального и среднего – профессионального образования. Занимается обучением учащихся навыкам, применяемым на практике в какой-либо отрасли или профессии. Обычно за мастером производственного обучения происходит закрепление учебных групп, обучение которых он проводит в дальнейшем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фессия ориентирована на общение с людьми, тесное с ними взаимодействие. Мастер производственного обучения должен хорошо подавать не только теоретический материал, но и практическую часть. То есть сочетать гуманитарные навыки с технической составляющей, а это не всегда легко. Применять свои способности мастер может в самых различных областях и направлениях, где требуются его услуги, перечислим главные из них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914400" y="121896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0000"/>
                </a:solidFill>
                <a:latin typeface="Corbel"/>
              </a:rPr>
              <a:t>Общие компетенции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74" name=""/>
          <p:cNvSpPr txBox="1"/>
          <p:nvPr/>
        </p:nvSpPr>
        <p:spPr>
          <a:xfrm>
            <a:off x="685440" y="22093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8560" indent="-285480" algn="just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rbel"/>
              </a:rPr>
              <a:t>Я понимаю сущность и социальную значимость своей профессии, и проявляю к ней устойчивый интерес.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628560" indent="-285480" algn="just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rbel"/>
              </a:rPr>
              <a:t>Организовываю собственную деятельность исходя из цели и способов ее достижения, определенных руководителем.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628560" indent="-285480" algn="just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rbel"/>
              </a:rPr>
              <a:t>Анализирую рабочую ситуацию, осуществляю текущий и итоговый контроль, оценку и коррекцию собственной деятельности, несу ответственность за результаты своей работы.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628560" indent="-285480" algn="just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rbel"/>
              </a:rPr>
              <a:t>Осуществляю поиск информации, необходимой для эффективного выполнения профессиональных задач.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628560" indent="-285480" algn="just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rbel"/>
              </a:rPr>
              <a:t>Использую информационно-коммуникационные технологии в профессиональной деятельности.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628560" indent="-285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ff0000"/>
                </a:solidFill>
                <a:latin typeface="Corbel"/>
              </a:rPr>
              <a:t>Творческие качества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76" name=""/>
          <p:cNvSpPr txBox="1"/>
          <p:nvPr/>
        </p:nvSpPr>
        <p:spPr>
          <a:xfrm>
            <a:off x="1295280" y="1447920"/>
            <a:ext cx="69343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У меня преобладает: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algn="just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интерес и любовь к детям;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algn="just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способность к сочувствию, сопереживанию;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algn="just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артистизм, организаторские способности;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algn="just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умение ставить неожиданные вопросы и находить неожиданные ответы;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algn="just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создание проблемных ситуаций;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algn="just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поощрение учителем детского воображения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1600200" y="837720"/>
            <a:ext cx="673272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0000"/>
                </a:solidFill>
                <a:latin typeface="Corbel"/>
              </a:rPr>
              <a:t>Волонтер в </a:t>
            </a:r>
            <a:r>
              <a:rPr b="1" lang="en-US" sz="3900" spc="-1" strike="noStrike">
                <a:solidFill>
                  <a:srgbClr val="ff0000"/>
                </a:solidFill>
                <a:latin typeface="Gill Sans MT"/>
              </a:rPr>
              <a:t>Worldskills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578" name="Picture 2" descr="C:\Users\Наташа\Desktop\Все фото\все\5O1Ulblqwzk.jpg"/>
          <p:cNvPicPr/>
          <p:nvPr/>
        </p:nvPicPr>
        <p:blipFill>
          <a:blip r:embed="rId1"/>
          <a:stretch/>
        </p:blipFill>
        <p:spPr>
          <a:xfrm rot="20795400">
            <a:off x="303120" y="2205000"/>
            <a:ext cx="3702240" cy="2776680"/>
          </a:xfrm>
          <a:prstGeom prst="rect">
            <a:avLst/>
          </a:prstGeom>
          <a:ln w="0">
            <a:noFill/>
          </a:ln>
        </p:spPr>
      </p:pic>
      <p:pic>
        <p:nvPicPr>
          <p:cNvPr id="579" name="Picture 4" descr="C:\Users\Наташа\Desktop\Все фото\все\GJPw5EsghVU.jpg"/>
          <p:cNvPicPr/>
          <p:nvPr/>
        </p:nvPicPr>
        <p:blipFill>
          <a:blip r:embed="rId2"/>
          <a:stretch/>
        </p:blipFill>
        <p:spPr>
          <a:xfrm>
            <a:off x="4495680" y="1447920"/>
            <a:ext cx="3894120" cy="52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1752480" y="914400"/>
            <a:ext cx="6477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orbel"/>
              </a:rPr>
              <a:t>СРЕДНИЙ БАЛ ЗА СЕМЕСТРЫ</a:t>
            </a:r>
            <a:br>
              <a:rPr sz="3900"/>
            </a:b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581" name="Рисунок 3" descr=""/>
          <p:cNvPicPr/>
          <p:nvPr/>
        </p:nvPicPr>
        <p:blipFill>
          <a:blip r:embed="rId1"/>
          <a:srcRect l="47659" t="39769" r="14324" b="19277"/>
          <a:stretch/>
        </p:blipFill>
        <p:spPr>
          <a:xfrm>
            <a:off x="1122480" y="1371600"/>
            <a:ext cx="779292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61976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0000"/>
                </a:solidFill>
                <a:latin typeface="Corbel"/>
              </a:rPr>
              <a:t>Учебные и производственные практики</a:t>
            </a: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graphicFrame>
        <p:nvGraphicFramePr>
          <p:cNvPr id="583" name=""/>
          <p:cNvGraphicFramePr/>
          <p:nvPr/>
        </p:nvGraphicFramePr>
        <p:xfrm>
          <a:off x="1523880" y="2133720"/>
          <a:ext cx="6077160" cy="3084480"/>
        </p:xfrm>
        <a:graphic>
          <a:graphicData uri="http://schemas.openxmlformats.org/drawingml/2006/table">
            <a:tbl>
              <a:tblPr/>
              <a:tblGrid>
                <a:gridCol w="1519200"/>
                <a:gridCol w="1519560"/>
                <a:gridCol w="1519200"/>
                <a:gridCol w="1519200"/>
              </a:tblGrid>
              <a:tr h="385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Наименование практик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Кур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Место прохожден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Оценк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УП ПМ.0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ГБПОУ НСО «НППК»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193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УП ПМ.0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ГБПОУ НСО «НППК»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85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ПП ПМ.0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МКОУ Куриловская СОШ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УП ПМ.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ГБПОУ НСО «НППК»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193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УП ПМ.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ГБПОУ НСО «НППК»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УП ПМ.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ГБПОУ НСО «НППК»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85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ПП ПМ.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МКОУ Куриловская СОШ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85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ПП ПМ.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МКОУ Куриловская СОШ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85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ПП ПМ. 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МКОУ Куриловская СОШ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УП ПМ.0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ГБПОУ НСО «НППК»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2T02:11:51Z</dcterms:created>
  <dc:creator>SmileTemplates.com</dc:creator>
  <dc:description/>
  <dc:language>en-US</dc:language>
  <cp:lastModifiedBy>Студент-204</cp:lastModifiedBy>
  <dcterms:modified xsi:type="dcterms:W3CDTF">2018-03-22T05:19:04Z</dcterms:modified>
  <cp:revision>172</cp:revision>
  <dc:subject/>
  <dc:title>Name of presentation</dc:title>
</cp:coreProperties>
</file>