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FED-DF53-43BB-A2E8-CE954BB6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357-0646-4ABA-8874-F740DD9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6BC-E576-4228-BFE4-6E7DDA13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684-16C0-4194-AE27-B8AF9E16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885-C0D6-492C-A824-416881C1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77F-076C-46C9-BA45-29FD4D5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655-F3A6-4891-9845-CA56FD3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7A9-DEF0-4E42-A1C5-812C75F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EB-58C7-4806-92E0-28F217C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499-6DA3-4B0B-A3C9-750D063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566-D468-4065-8654-99436E3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FB6-A06D-4AD9-B2B6-587D300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951-34E8-4C42-AED5-5C8BA8C882F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entrprofnsk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571680" y="2000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Как помочь </a:t>
            </a: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ребё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выбрать професс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8"/>
          <p:cNvSpPr/>
          <p:nvPr/>
        </p:nvSpPr>
        <p:spPr>
          <a:xfrm>
            <a:off x="571680" y="3422520"/>
            <a:ext cx="92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Rubik Light"/>
                <a:ea typeface="Rubik Light"/>
              </a:rPr>
              <a:t>ЦЕНТР РАЗВИТИЯ ПРОФЕССИОНАЛЬНОЙ КАРЬ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604800" y="5711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овосибирск, 202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1440" y="691920"/>
            <a:ext cx="7829280" cy="88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Чем могут помочь родител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1080" y="2060640"/>
            <a:ext cx="8001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      </a:t>
            </a: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ДАЙТЕ ОБРАТНУЮ СВЯЗЬ ПО ПОВОДУ ТАЛАНТОВ, СКЛОННОСТЕЙ, ЗАДАТ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РОДИТЕЛИ ХОРОШО ЗНАЮТ СИЛЬНЫЕ / СЛАБЫЕ СТОРОНЫ СВОИХ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АБЛЮДАЙТЕ ЗА ОСОБЕННОСТЯМИ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ЧЕМ НРАВИТСЯ / НРАВИЛОСЬ ЗАНИМ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080" y="54900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Чем могут помочь родител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400" y="206028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АЙДИТЕ ВОЗМОЖНОСТЬ ПОЗНАКОМИТЬСЯ С ВЫБРАННОЙ ПРОФЕССИЕЙ ПОБЛИ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ИЗУЧИТЕ УЧЕБНЫЕ ЗАВЕДЕНИЯ ВАШЕГО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РАССКАЖИТЕ О СВОЕ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058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05c2e"/>
                </a:solidFill>
                <a:latin typeface="Rubik"/>
                <a:ea typeface="Rubik"/>
              </a:rPr>
              <a:t>Как познакомить ребёнка с будущей профессией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916280"/>
            <a:ext cx="800244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20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ДНИ ОТКРЫТЫХ ДВЕР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20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ЭКСКУРСИЯ НА ПРЕДПРИЯТ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20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РОДСТВЕННИКИ, ДРУЗЬЯ, ЗНАКОМЫЕ, КОТОРЫЕ ЗАНЯТЫ В ЭТОЙ ПРОФЕ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05c2e"/>
                </a:solidFill>
                <a:latin typeface="Rubik"/>
                <a:ea typeface="Rubik"/>
              </a:rPr>
              <a:t>Как познакомить ребёнка с будущей профессией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4. ВОЗМОЖНОСТЬ ПОРАБОТАТЬ САМ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5. ЧТЕНИЕ КНИГ, СТА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6. ИЗУЧЕНИЕ ПРОФЕССИ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ознакомить ребёнка с будущей профессией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Возможность поработать самому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Чтение книг, статей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Изучение профессиограмм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08000" y="0"/>
            <a:ext cx="8712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Профессиограмма содержит информацию 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СОДЕРЖАНИИ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НЕОБХОДИМЫХ ЗНА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ПРОФЕССИОНАЛЬНО ВАЖНЫХ КАЧЕСТВ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МЕДИЦИНСКИХ ПРОТИВОПОКАЗА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РОДСТВЕННЫХ ПРОФЕСС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ПУТЯХ ПОЛУЧЕНИЯ ПРОФЕС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грамма содержит информацию 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держании труда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обходимых знан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о важных качества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ицинских противопоказан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дственных професс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утях получения професси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742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грамма содержит информацию 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держании труда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обходимых знан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о важных качества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ицинских противопоказан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дственных профессиях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утях получения професси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742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212760" y="115920"/>
            <a:ext cx="8597880" cy="6626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"/>
          <p:cNvPicPr/>
          <p:nvPr/>
        </p:nvPicPr>
        <p:blipFill>
          <a:blip r:embed="rId3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9720" y="228240"/>
            <a:ext cx="783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 Light"/>
              </a:rPr>
              <a:t>Выбор профессии не должен быть случайным.</a:t>
            </a:r>
            <a:r>
              <a:rPr b="0" lang="ru-RU" sz="29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2900"/>
            </a:br>
            <a:r>
              <a:rPr b="1" lang="ru-RU" sz="2200" spc="-1" strike="noStrike">
                <a:solidFill>
                  <a:srgbClr val="000000"/>
                </a:solidFill>
                <a:latin typeface="Calibri Light"/>
              </a:rPr>
              <a:t>Должны выполняться три условия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0"/>
          <p:cNvGrpSpPr/>
          <p:nvPr/>
        </p:nvGrpSpPr>
        <p:grpSpPr>
          <a:xfrm>
            <a:off x="1428840" y="1785960"/>
            <a:ext cx="6592680" cy="3982680"/>
            <a:chOff x="1428840" y="1785960"/>
            <a:chExt cx="6592680" cy="3982680"/>
          </a:xfrm>
        </p:grpSpPr>
        <p:sp>
          <p:nvSpPr>
            <p:cNvPr id="111" name="AutoShape 3"/>
            <p:cNvSpPr/>
            <p:nvPr/>
          </p:nvSpPr>
          <p:spPr>
            <a:xfrm>
              <a:off x="5964120" y="1785960"/>
              <a:ext cx="2057400" cy="1079280"/>
            </a:xfrm>
            <a:prstGeom prst="cube">
              <a:avLst>
                <a:gd name="adj" fmla="val 25000"/>
              </a:avLst>
            </a:prstGeom>
            <a:solidFill>
              <a:srgbClr val="5b9bd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"/>
            <p:cNvSpPr/>
            <p:nvPr/>
          </p:nvSpPr>
          <p:spPr>
            <a:xfrm>
              <a:off x="3805200" y="1785960"/>
              <a:ext cx="1981080" cy="1142640"/>
            </a:xfrm>
            <a:prstGeom prst="cube">
              <a:avLst>
                <a:gd name="adj" fmla="val 25000"/>
              </a:avLst>
            </a:prstGeom>
            <a:solidFill>
              <a:srgbClr val="5b9bd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Г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1500120" y="1858680"/>
              <a:ext cx="2054160" cy="1142640"/>
            </a:xfrm>
            <a:prstGeom prst="cube">
              <a:avLst>
                <a:gd name="adj" fmla="val 23194"/>
              </a:avLst>
            </a:prstGeom>
            <a:solidFill>
              <a:srgbClr val="5b9bd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Ч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428840" y="3082680"/>
              <a:ext cx="18446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и интерес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кло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3589200" y="3082680"/>
              <a:ext cx="2232000" cy="2014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пособ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змож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стояние здоровь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1000" indent="-810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5964120" y="3082680"/>
              <a:ext cx="1904760" cy="2685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5760" indent="-18576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прос на    рынке труд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85760" indent="-18576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85760" indent="-18576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остребован-ность професс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85760" indent="-18576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85760" indent="-18576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озможности трудоустройств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0" descr="BS02064_"/>
          <p:cNvPicPr/>
          <p:nvPr/>
        </p:nvPicPr>
        <p:blipFill>
          <a:blip r:embed="rId1"/>
          <a:stretch/>
        </p:blipFill>
        <p:spPr>
          <a:xfrm>
            <a:off x="785880" y="4857840"/>
            <a:ext cx="1798560" cy="1790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"/>
          <p:cNvPicPr/>
          <p:nvPr/>
        </p:nvPicPr>
        <p:blipFill>
          <a:blip r:embed="rId2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59d4a"/>
                </a:solidFill>
                <a:latin typeface="Rubik"/>
                <a:ea typeface="Rubik"/>
              </a:rPr>
              <a:t>Склонности, интере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3880" y="1928880"/>
            <a:ext cx="7358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Rubik Light"/>
                <a:ea typeface="Rubik Light"/>
              </a:rPr>
              <a:t>ЧЕЛОВЕК БОЛЕЕ УСПЕШЕН В ТОЙ ДЕЯТЕЛЬНОСТИ, КОТОРАЯ ЕМУ ПО ДУШЕ. ПОЭТОМУ, ВЫБИРАЯ ПРОФЕССИЮ, НУЖНО ОБРАТИТЬ ВНИМАНИЕ НА ТО, ЧЕМ ИНТЕРЕСНО ЗАНИМАТЬСЯ, ЧТО ДОСТАВЛЯЕТ УДОВОЛЬСТВ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05c2e"/>
                </a:solidFill>
                <a:latin typeface="Rubik"/>
                <a:ea typeface="Rubik"/>
              </a:rPr>
              <a:t>Выбор профессии – один из важнейших выборов, которые человек делает в своей жизн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400" y="2781000"/>
            <a:ext cx="74674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УРОВЕНЬ ЖИЗНИ И ДОСТА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ОБРАЗ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УРОВЕНЬ ИНТЕЛЛ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МЕДИЦИНСКИЕ ПОКАЗ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ИНТЕРЕ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СКЛО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Подсказк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320" y="1714680"/>
            <a:ext cx="714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ХОББ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УВЛЕ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ЧЕМ ЗАНИМАЕТЕСЬ В СВОБОДНОЕ ВРЕМ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ЧТО ХОРОШО ПОЛУЧАЕТ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КНИГИ ОПРЕДЕЛЁННОЙ ТЕМА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68360" algn="just">
              <a:lnSpc>
                <a:spcPct val="15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«Я ХОЧУ БЫТЬ ПОХОЖИМ НА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56760"/>
            <a:ext cx="820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05c2e"/>
                </a:solidFill>
                <a:latin typeface="Rubik"/>
                <a:ea typeface="Rubik"/>
              </a:rPr>
              <a:t>Знания, умения, навыки, способности + здоровье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14240" y="199980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59d4a"/>
                </a:solidFill>
                <a:latin typeface="Rubik Light"/>
                <a:ea typeface="Rubik Light"/>
              </a:rPr>
              <a:t>ОДНОГО ИНТЕРЕСА К КАКОМУ-ЛИБО ДЕЛУ МАЛО, НУЖНО ЕЩЁ, ЧТОБЫ ОНО ПОЛУЧАЛОСЬ. А ДЛЯ ЭТОГО НЕОБХОДИМЫ ОПРЕДЕЛЁННЫЕ СПОСОБНОСТИ. ВОЗМОЖНОСТИ ЧЕЛОВЕКА ОГРАНИЧЕНЫ ТАКЖЕ СОСТОЯНИЕМ ЕГО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28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700" spc="-1" strike="noStrike">
                <a:solidFill>
                  <a:srgbClr val="f05c2e"/>
                </a:solidFill>
                <a:latin typeface="Rubik"/>
                <a:ea typeface="Rubik"/>
              </a:rPr>
              <a:t>Подсказки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600" y="1714680"/>
            <a:ext cx="792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59d4a"/>
                </a:solidFill>
                <a:latin typeface="Rubik Light"/>
                <a:ea typeface="Rubik Light"/>
              </a:rPr>
              <a:t>ИЗУЧАЙТЕ СЕБЯ: ХАРАКТЕР, ТЕМПЕРАМЕНТ, СПОСОБНОСТИ, ВОЗМОЖ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59d4a"/>
                </a:solidFill>
                <a:latin typeface="Rubik Light"/>
                <a:ea typeface="Rubik Light"/>
              </a:rPr>
              <a:t>УЧИТЫВАЙТЕ ПРОФЕССИОНАЛЬНО ВАЖНЫЕ КАЧЕСТВА, НЕОБХОДИМ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59d4a"/>
                </a:solidFill>
                <a:latin typeface="Rubik Light"/>
                <a:ea typeface="Rubik Light"/>
              </a:rPr>
              <a:t> </a:t>
            </a:r>
            <a:r>
              <a:rPr b="0" lang="ru-RU" sz="3000" spc="-1" strike="noStrike">
                <a:solidFill>
                  <a:srgbClr val="059d4a"/>
                </a:solidFill>
                <a:latin typeface="Rubik Light"/>
                <a:ea typeface="Rubik Light"/>
              </a:rPr>
              <a:t>ДЛЯ ТОЙ ИЛИ ИНОЙ ПРОФЕСС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9120" y="764640"/>
            <a:ext cx="66438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Над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79120" y="1916280"/>
            <a:ext cx="74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59d4a"/>
                </a:solidFill>
                <a:latin typeface="Rubik Light"/>
                <a:ea typeface="Rubik Light"/>
              </a:rPr>
              <a:t>БЛИЖАЙШИЕ 7 Л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59d4a"/>
                </a:solidFill>
                <a:latin typeface="Rubik Light"/>
                <a:ea typeface="Rubik Light"/>
              </a:rPr>
              <a:t>21,5% СПЕЦИАЛИСТЫ С ВЫСШИМ ОБРАЗ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59d4a"/>
                </a:solidFill>
                <a:latin typeface="Rubik Light"/>
                <a:ea typeface="Rubik Light"/>
              </a:rPr>
              <a:t>78,5 - СПЕЦИАЛИСТЫ СО СРЕДНЕ – СПЕЦИАЛЬНЫМ ОБРАЗ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Востребованные професс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200" y="198864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МЕДСЕСТ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СЛЕСАР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ВОДИТЕЛ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ФЕЛЬДШЕР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ОПЕРАТОР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ВОСПИТАТЕЛЬ ДЕТСКОГО САД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59d4a"/>
                </a:solidFill>
                <a:latin typeface="Rubik Light"/>
                <a:ea typeface="Rubik Light"/>
              </a:rPr>
              <a:t>АКУШЕР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28880" y="1988640"/>
            <a:ext cx="3886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ПОВ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ТРАКТОРИС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МЕХА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ШТУК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МАЛЯ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ПЕК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059d4a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59d4a"/>
                </a:solidFill>
                <a:latin typeface="Rubik Light"/>
                <a:ea typeface="Rubik Light"/>
              </a:rPr>
              <a:t>ФРЕЗЕРОВЩ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590544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9d4a"/>
                </a:solidFill>
                <a:latin typeface="Rubik"/>
                <a:ea typeface="Rubik"/>
              </a:rPr>
              <a:t>Спрос на квалифицированных и опытных специалистов в любой области есть и будет всегд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777564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59d4a"/>
                </a:solidFill>
                <a:latin typeface="Rubik"/>
                <a:ea typeface="Rubik"/>
              </a:rPr>
              <a:t>Специалистов много, хороших - единиц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343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59d4a"/>
                </a:solidFill>
                <a:latin typeface="Rubik"/>
                <a:ea typeface="Rubik"/>
              </a:rPr>
              <a:t>Специализированные учебные завед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699920"/>
            <a:ext cx="74296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05c2e"/>
                </a:solidFill>
                <a:latin typeface="Rubik"/>
                <a:ea typeface="Rubik"/>
              </a:rPr>
              <a:t>«Новосибирский центр профессионального обучения № 2 им. Героя России Ю.М. Наумова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АДРЕС</a:t>
            </a: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: ПЕРВОМАЙСКАЯ 2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САЙТ</a:t>
            </a: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: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Rubik Light"/>
                <a:ea typeface="Rubik Light"/>
                <a:hlinkClick r:id="rId1"/>
              </a:rPr>
              <a:t>HTTP://CENTRPROFNSK.RU/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СПЕЦИАЛЬНОСТИ</a:t>
            </a: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РАБОЧИЙ ЗЕЛЕНОГО ХОЗЯЙСТВ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ПЛОТНИК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СБОРЩИК ИЗДЕЛИЙ ИЗ ДРЕВИСИН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ШВЕ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ШТУКАТУР, МАЛЯР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Rubik Light"/>
                <a:ea typeface="Rubik Light"/>
              </a:rPr>
              <a:t>КАМЕНЩИ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716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59d4a"/>
                </a:solidFill>
                <a:latin typeface="Rubik"/>
                <a:ea typeface="Rubik"/>
              </a:rPr>
              <a:t>Специализированные учебные завед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26920" y="184464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05c2e"/>
                </a:solidFill>
                <a:latin typeface="Rubik"/>
                <a:ea typeface="Rubik"/>
              </a:rPr>
              <a:t>«Новосибирский центр профессионального обучения №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АДРЕС</a:t>
            </a: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: ВЕСЕННЯЯ 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САЙТ</a:t>
            </a: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HTTP://NCPO1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Rubik Light"/>
                <a:ea typeface="Rubik Light"/>
              </a:rPr>
              <a:t>СПЕЦИАЛЬНОСТИ</a:t>
            </a: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ЦВЕТОВОД, ПЛОДООВОЩЕ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СТОЛЯР СТРОИТЕЛЬНЫЙ, ПЛОТНИ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ШВЕ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Rubik Ligh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Rubik Light"/>
                <a:ea typeface="Rubik Light"/>
              </a:rPr>
              <a:t>ШТУКАТУР, МАЛЯР СТРОИТЕЛЬ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59d4a"/>
                </a:solidFill>
                <a:latin typeface="Rubik"/>
                <a:ea typeface="Rubik"/>
              </a:rPr>
              <a:t>Куда</a:t>
            </a:r>
            <a:r>
              <a:rPr b="1" lang="ru-RU" sz="4400" spc="-1" strike="noStrike">
                <a:solidFill>
                  <a:srgbClr val="000066"/>
                </a:solidFill>
                <a:latin typeface="Rubik"/>
                <a:ea typeface="Rubik"/>
              </a:rPr>
              <a:t> </a:t>
            </a: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можно обратитьс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642960" y="1582560"/>
            <a:ext cx="7572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Rubik Light"/>
                <a:ea typeface="Rubik Light"/>
              </a:rPr>
              <a:t>1. ЦЕНТР РАЗВИТИЯ ПРОФЕССИОНАЛЬНОЙ КАРЬ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Rubik Light"/>
                <a:ea typeface="Rubik Light"/>
              </a:rPr>
              <a:t>ЛЕСКОВА 15, ТЕЛ. 266-62-37, 231-03-4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Rubik Light"/>
                <a:ea typeface="Rubik Light"/>
              </a:rPr>
              <a:t>(УСЛУГИ ПРЕДОСТАВЛЯЮТСЯ БЕСПЛАТНО ОТ 14 ДО 29 Л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Rubik Light"/>
                <a:ea typeface="Rubik Light"/>
              </a:rPr>
              <a:t>HTTP://WWW.PROF-KARYER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Rubik Light"/>
                <a:ea typeface="Rubik Light"/>
              </a:rPr>
              <a:t>2. МКУ ЦЕНТР «РОДНИК», ОТДЕЛ ПРОФОРИ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Rubik Light"/>
                <a:ea typeface="Rubik Light"/>
              </a:rPr>
              <a:t>НАРОДНАЯ 13, ТЕЛ. 276-02-11, 276-02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Каково сделать такой выбор в 16 – 18 лет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320" y="2204640"/>
            <a:ext cx="746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ЕТ ЖИЗНЕННОГО ОПЫ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ПЛОХО ЗНАЕТ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ЕСТАБИЛЬНАЯ САМООЦ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НЕ СФОРМИРОВАННЫ НАВЫ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ЛЕГКО ПОДДАЕТСЯ ВЛИЯНИЮ ИЗ В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МАЛО ЗНАНИЙ О РЫНКЕ ТР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МАЛО ЗНАНИЙ О ПРОФЕСС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6bb832"/>
                </a:solidFill>
                <a:latin typeface="Rubik Light"/>
                <a:ea typeface="Rubik Light"/>
              </a:rPr>
              <a:t>МАЛО ЗНАНИЙ О СОДЕРЖАНИИ ТР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416720" cy="18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Выбирать </a:t>
            </a: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вместе</a:t>
            </a: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  с ним, но не </a:t>
            </a: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за</a:t>
            </a: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 нег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1844280"/>
            <a:ext cx="741708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Главное – </a:t>
            </a:r>
            <a:r>
              <a:rPr b="0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замотивировать</a:t>
            </a: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 и создать позитивный, реалистичный настр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6bb832"/>
                </a:solidFill>
                <a:latin typeface="Rubik"/>
                <a:ea typeface="Rubik"/>
              </a:rPr>
              <a:t>ОБСУДИТЕ + И - БЕЗЛЕЛЬ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2708280"/>
          <a:ext cx="6095880" cy="2225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Rubik"/>
                          <a:ea typeface="Rubi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Rubik"/>
                          <a:ea typeface="Rubi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МНОГО СВОБОДНОГО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ОТСТУТСТВИЕ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ОБЩЕНИЕ С КЕМ ХОЧЕШ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БЕЗДЕНЕЖ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НЕТ ОБЯЗА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СЛОЖНО НАЙТИ ДРУ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ОСУЖДЕНИЕ ДРУГ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6bb832"/>
                          </a:solidFill>
                          <a:latin typeface="Rubik"/>
                          <a:ea typeface="Rubik"/>
                        </a:rPr>
                        <a:t>ПРОБЛЕМЫ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</a:tbl>
          </a:graphicData>
        </a:graphic>
      </p:graphicFrame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Основные ошибки родител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50804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1. «ОН ДОЛЖЕН РЕАЛИЗОВАТЬ ТО, ЧТО У МЕНЯ НЕ ПОЛУЧИЛОС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2. СЛЕДОВАТЬ СЕМЕЙНОЙ ДИНАС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3. ОБЕСЦЕНИВАТЬ ВЫБОР РЕБЁН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4. НЕ УЧИТЫВАТЬ СКЛОННОСТИ, ИНТЕРЕСЫ, ОСОБЕННОСТИ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5. </a:t>
            </a:r>
            <a:r>
              <a:rPr b="1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БЫТЬ НЕСЧАСТ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05c2e"/>
                </a:solidFill>
                <a:latin typeface="Rubik"/>
                <a:ea typeface="Rubik"/>
              </a:rPr>
              <a:t>Чем могут помочь родител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Rubik Light"/>
                <a:ea typeface="Rubik Light"/>
              </a:rPr>
              <a:t>1. ЕСЛИ РЕБЁНОК ОПРЕДЕЛ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ВЫСЛУШ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ПОН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ПРИНЯТЬ ДРУГУЮ ТОЧКУ З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ВЫСКАЗАТЬ СВОИ ОПАСЕНИЯ (ЕСЛИ ТАКОВЫЕ ИМЕ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ВМЕСТЕ ИЗУЧИТЬ ВОЗМОЖНОСТИ ПОСТУПЛЕНИЯ / ОБУЧЕНИЯ / ТРУДОУСТР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ПОДДЕР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Rubik Light"/>
                <a:ea typeface="Rubik Light"/>
              </a:rPr>
              <a:t>2. Если ребёнок не определ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Поговорить (выслушать,  поня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6bb832"/>
              </a:buClr>
              <a:buFont typeface="Rubik Light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Вместе пройти несколько тес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Тест Климова  (ДД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Тест Резапки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6bb832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Тест Голл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6bb832"/>
                </a:solidFill>
                <a:latin typeface="Rubik Light"/>
                <a:ea typeface="Rubik Light"/>
              </a:rPr>
              <a:t>3) Отвести на консультацию к проф. консультан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684360" y="6381720"/>
            <a:ext cx="5975280" cy="142920"/>
          </a:xfrm>
          <a:prstGeom prst="rect">
            <a:avLst/>
          </a:prstGeom>
          <a:solidFill>
            <a:srgbClr val="f05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7956720" y="5591160"/>
            <a:ext cx="77148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5:54:15Z</dcterms:created>
  <dc:creator>Тарасова</dc:creator>
  <dc:description/>
  <dc:language>en-US</dc:language>
  <cp:lastModifiedBy>Виктория</cp:lastModifiedBy>
  <dcterms:modified xsi:type="dcterms:W3CDTF">2020-10-20T00:13:45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