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6D29-3DF4-4822-97C8-4BDBAC1A8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2519-F4C6-4F2B-98A8-E7406C01E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C62E-7434-4425-AF00-6E6D8EA44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4F76-B581-4B11-A4BA-F0DD8EC26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D53-5C82-446E-8A02-8AE2BB5E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651-8864-477E-A03D-84789E92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44D67-8E75-4CF4-9A47-B13CDA92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26FAB-39EA-4505-B313-6197B88D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E3084-4B88-4153-BB40-FEEFC3F8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5D062-3712-40EE-860C-0E98EAC8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DE042-0F43-4D28-906F-FF830050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48036-D7AA-44EB-B2E3-3F9EB632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B11FD-CE80-4697-9805-C9E1493C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9CE7A-F4B9-4865-B514-5D0EA9B5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9AF0C-5D9B-4ED8-894A-875F2302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381FD-F07B-4D80-9F84-58DD0614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2CE-8524-4903-BE7A-D8192397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BD84F-5B69-47B3-8942-AEBC71B4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03651-D10E-4DAF-A4A0-097D8420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BEC7A-DCB7-4105-B8A3-0CF1E313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92257-45CE-4DEE-BFDC-0295267C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80C46-C88F-4F89-A736-C77D3189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50C62-5CDF-4D47-8042-958AD2FE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0B386-AF16-41BE-9F6A-BF35C666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E7834-60DB-4051-82F3-CE900D08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DB006-FFB7-44DC-B917-FEDB98F3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FC6FD-241C-4551-A53A-51EBBE6A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382-976B-4AC7-A7B0-1C5A084D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5384C-C8C4-4890-A0C6-0FB63EDE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7A512-FCE0-4BD0-9EA7-80EF1FE5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3257A-8637-47B6-A6A2-595BCC15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02772-1B5A-4C17-A827-8079CF74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07B21-9C0F-45FF-B112-D397A658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CF9A2-5E67-4D39-8927-8F4BEFD6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792FF-8427-47FC-8D6C-F256B2F3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B4622-FB4E-479A-A745-06B0D835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A94A3-165E-4C31-9D9A-F463D2F5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EFFA7-71CB-4902-B237-7F0C3C9E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35CE-9B7A-414D-8290-607D300E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91586-F3C9-425E-9BE1-2C9BFC6F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D5853-46A3-444E-9F9A-52E41859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82975-9610-49A6-89CD-FA4F0538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D36B0-8EE3-4AF5-8677-967AA7FF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B1B0C-FCB1-41E1-BFB5-9B0C11BB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50228-4E5D-48E1-B056-CA36405F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A766D-6449-4D2A-895F-693A245F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5094F-1FC3-4B5B-9982-441ABE81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A96EA-7317-4942-A92A-29919D9E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763D5-0B9E-4D95-A93E-E80BE1C5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65AD-FADC-4440-8F48-F09BD71F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6BF55-FFB6-4D0D-88C1-A1351CB4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CA097-314D-4357-9745-71D69D07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25803-F37E-4502-A3F4-5312E6F7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FF31A-49C3-483F-91CE-BED52001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7AF5F-56C2-442F-BFB0-8649B3CB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A467-AF03-4544-B282-F5408026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ED86-8EAB-4B24-B27A-7D50FE11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2E47-E6FD-4FA1-AC61-5F5ED3BC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9F16-90C6-41AD-A61B-9F615B62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C939-27CA-4DCB-B4DA-85B5461A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FBE-C1A7-4F23-AB66-9B009EF1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EB76-970F-4C6F-9D87-5BC91E23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0307-787D-4EEB-95F9-850CBCE4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EC4D-52FC-46CE-80E7-B4559AE9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1F08-8FD7-4EA0-8308-A3F839A7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DC28-211C-4F95-B620-9F6A44EF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9B544-6A24-4B7B-B6B1-680EF7ED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7C80-F6CE-42CD-9190-B589E5FE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D9BC-8CE1-4FA1-ADB1-93EE1DF5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9B6D-68C0-40B9-AA6C-EADC628B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0F4E-943D-4120-B386-1237E859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7202-1D23-48BD-A891-97AA2A3E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F0BA-6B4B-4A87-B8FB-D28C0FF3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1721E-5DD8-4330-86F7-C5E9A9FF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096BB-69B8-44B8-87D4-109345E4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E2DD-7D82-458B-BA45-EABB8D1D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E34A-2F37-44A4-B706-85EFE6D3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1B82-1529-49A6-82F1-B977ADE6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E656F-0EAB-4F01-9C5B-CA306393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CED29-1C4A-4DDC-8597-6F7A400B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75090-4FE9-461F-A770-40ED0661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A2AC7-66E6-42F0-BC46-E3EB50B0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82E-FD4C-4EA2-BE1D-3D1949D8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6D5B8-98B3-483E-A321-12610241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DFFBB-C980-4EC0-A299-48FFFF0A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62794-EC7A-40B8-A4E6-F02AA670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438B5-C7EB-4EF7-8210-D40A15F7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CCDFB-706D-4452-9A23-1EB4BD5B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9C67B-7420-46B3-ACC1-7A37A5BF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163A-5EA4-4429-A914-E1E12F52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A5AFF-F624-459C-A098-F0587D7C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DB429-A004-468F-A38C-6D6E8528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E8FF2-7F9F-4781-A54D-33C4616E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BF0-67AA-42D6-A102-8148CFD8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9CD0A-D7DD-4AF6-B1B5-A79362BB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94E45-835B-4B50-980C-8C3D55B2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F5E0B-AFEB-4139-A740-B68BE929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89B11-2313-48EB-B649-47A968FF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AD4BE-C963-4449-8F44-435A296A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BBE54-C4EB-487E-A5C6-4D7CE879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2F04E-B469-4EB6-8BA1-CE8449C2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45990-0472-4C3B-B1E8-C0251FD1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FADB7-6EA9-4D99-A199-6F28159A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FA4E9-96A3-448F-815D-DD7A66C2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102-188A-4E8A-B3E0-AC1AB707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5089E-6E12-42F2-A938-D985C9E7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E208C-CF08-472F-A2B7-444F7839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BC7BA-DC9F-4BCC-9747-C63E11FA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8E2DE-C530-4505-9484-669AD6A3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6FC9D-16D1-47AC-9F50-945C66D1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2E00B-60BD-4E87-BBF0-C6ED9023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A7F65-04B7-4BA7-B822-2DB49E47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947F9-B35D-4753-B2B9-BC74BDFB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BF9F3-D241-4F9B-A91C-8DF4D9AB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BBC08-8320-446D-8505-64346452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F28-6F33-4C80-B10D-ECF8F759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A09DA-D620-49F0-B80D-6EA3D251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32088-EA5B-4452-A4A8-D8FECC07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292BE-1655-4F87-A55F-89E38289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EE64D-E88D-40E4-AAF6-A4F320D3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C3AE4-BF30-4BB0-97CD-BB098174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69D40-AF63-490D-A6E6-CB285DDC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31A94-EFC4-461A-B6B8-B600B550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E383B-1EEF-47DC-BB71-B9F26216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2EAD5-EF7E-4F79-92EB-4C524A2A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0DC11-DA24-451C-9AB7-78D34750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988-57DB-42C0-830D-3C5E1627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08DE3-DE39-4130-8723-AB42718D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42ACB-7418-4D86-B3D9-921683F2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BD941-2197-4E8F-AA32-66BE4690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2557C-0CA3-426F-925C-D063EC51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5A1DD-9953-4B97-9EF3-3936E4F5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4B2C0-494A-4813-BDE0-D9916C9B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B0923-6676-4B62-AD0D-B450B54D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9F5D0-B4EB-465E-9619-BEF513D0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955E1-C943-4213-ACCA-B273AAF6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CBE02-98CA-45F8-B97D-95FB055C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C22-EA13-48B7-8E6C-6761A018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1451B-B306-466E-8A2E-F9834ED4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49F34-5292-44FF-B822-03684D31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AB576-8EBF-426B-BF97-62739950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04F56-34A1-4BDB-86A2-ADD7DA43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DED99-08D7-437F-9B82-8C98D065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B856F-DFE7-4E96-B079-1D106989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95674-E969-412E-BAC6-77159AEE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82A00-D17B-4D02-B682-826B2659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36E42-0517-40D4-872F-71439D14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C3D9A-C500-4858-A75A-E2996916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4467-4085-4BD5-8DCD-30C7F91E83B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CCC4-281E-485D-A6D8-D4A665297EE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3EA1-409C-4B36-AEF9-3340519EAFE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9785-22EB-40DC-8717-2DCCFE8C007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57B3-EF7A-43E3-B174-98AAF835F5B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02CA-76E2-421C-922D-6751842006A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E0DC-FE13-43A2-BD6F-2157560A4BD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7EFB-003D-4ED0-9133-45DA6FD4813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626D-0FC4-49ED-9C42-51F33BC7A29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9F4D-19A0-4A18-90AC-1F6F01687D7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962B-D52F-4B6E-B379-AC059620131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D0E9-D0B0-4778-8961-BB329F58651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r" pos="2425680"/>
                <a:tab algn="r" pos="2959200"/>
                <a:tab algn="r" pos="593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Министерство образования, науки и  инновационной политики </a:t>
            </a:r>
            <a:br>
              <a:rPr sz="1400"/>
            </a:br>
            <a:r>
              <a:rPr b="1" lang="ru-RU" sz="1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Новосибирской области</a:t>
            </a:r>
            <a:br>
              <a:rPr sz="1400"/>
            </a:br>
            <a:r>
              <a:rPr b="1" lang="ru-RU" sz="1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Новосибирской области </a:t>
            </a:r>
            <a:br>
              <a:rPr sz="1400"/>
            </a:br>
            <a:r>
              <a:rPr b="1" lang="ru-RU" sz="1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«НОВОСИБИРСКИЙ ПРОФЕССИОНАЛЬНО-ПЕДАГОГИЧЕСКИЙ КОЛЛЕДЖ»</a:t>
            </a: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019560" y="5562720"/>
            <a:ext cx="281916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ельниченко А.Ю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Прямоугольник 1"/>
          <p:cNvSpPr/>
          <p:nvPr/>
        </p:nvSpPr>
        <p:spPr>
          <a:xfrm>
            <a:off x="380880" y="30132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зитная карточка Мастера Производстве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91440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а учебной практике по ПМ 01.01 я изучала базу MY SQL и изучала язык программирования PHP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а учебной практике по ПМ 04.01 я научилась создавать техническую документацию для программных продуктов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а учебной практике по ПМ 04.01 я научилась разрабатывать урок производственного обучения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914400" y="15238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изводственной  практике по ПМ 01 я применяла свои педагогические навыки и знания в работе с детьм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изводственной практике по ПМ 02 я осуществляла наблюдение за и анализировала поведение студентов поступающих в мой колледж, применяя знания по психологии и педагогике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чебной практике по ПМ 05 я закрепляла знания по написанию сайто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изводственной  практике по ПМ 05 я создавала элементы брендбук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Прямоугольник 3"/>
          <p:cNvSpPr/>
          <p:nvPr/>
        </p:nvSpPr>
        <p:spPr>
          <a:xfrm>
            <a:off x="762120" y="990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совые прое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4"/>
          <p:cNvSpPr/>
          <p:nvPr/>
        </p:nvSpPr>
        <p:spPr>
          <a:xfrm>
            <a:off x="914400" y="1828800"/>
            <a:ext cx="762012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ДК 04.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 организации технологического процесса разработки программного обеспечения на примере создания динамического web-сайта гостиничного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ДК 01.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методического указания по теме: «Типы принтеров и их установ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55627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2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Пояснительная записка.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486040" y="182880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2004-2013г. МКОУ Утянская СОШ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2013-2018г. г. Новосибирский Профессионально-Педагогический Колледж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по специальности: 44.02.0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Профессиональное обучение (по отраслям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со специализацией: 09.02.03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Программирование в компьютерных системах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Квалификация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Мастер производственного обучения, техник-программист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0" name="Picture 4" descr="C:\Users\студент-204\Desktop\C5noALvg2-A.jpg"/>
          <p:cNvPicPr/>
          <p:nvPr/>
        </p:nvPicPr>
        <p:blipFill>
          <a:blip r:embed="rId1"/>
          <a:stretch/>
        </p:blipFill>
        <p:spPr>
          <a:xfrm>
            <a:off x="1066680" y="1752480"/>
            <a:ext cx="403884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1904760" y="838080"/>
            <a:ext cx="6933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бласть профессиональной деятельности меня как мастера ПО:  это совокупность методов и средств для разработки, сопровождения и эксплуатации программного обеспечения компьютерных систем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бъектами моей профессиональной деятельности являются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4492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компьютерные системы; автоматизированные системы обработки информации и управления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4492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рограммное обеспечение компьютерных систем (программы, программные комплексы и системы); математическое, информационное, техническое, эргономическое, организационное и правовое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4492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беспечение компьютерных систем; первичные трудовые коллективы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Как техник-программист я разрабатываю программные модули программного обеспечения для компьютерных систем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азрабатываю и администрирую базы данных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Участвую в интеграции программных модулей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ыполняю работы по одной или нескольким профессиям рабочих, должностям служащих ( приложение к настоящему ФГОС СПО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914040" y="7621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как Мастер производственного обучения – педагогический работник, который работаю в заведении начального и среднего – профессионального образования. Занимается обучением учащихся навыкам, применяемым на практике в какой-либо отрасли или профессии. Обычно за мастером производственного обучения происходит закрепление учебных групп, обучение которых он проводит в дальнейше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 ориентирована на общение с людьми, тесное с ними взаимодействие. Мастер производственного обучения должен хорошо подавать не только теоретический материал, но и практическую часть. То есть сочетать гуманитарные навыки с технической составляющей, а это не всегда легко. Применять свои способности мастер может в самых различных областях и направлениях, где требуются его услуги, перечислим главные из них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Общие компетенции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440" y="22093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2854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Я понимаю сущность и социальную значимость своей профессии, и проявляю к ней устойчивый интерес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2854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Организовываю собственную деятельность исходя из цели и способов ее достижения, определенных руководителем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2854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Анализирую рабочую ситуацию, осуществляю текущий и итоговый контроль, оценку и коррекцию собственной деятельности, несу ответственность за результаты своей работы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2854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Осуществляю поиск информации, необходимой для эффективного выполнения профессиональных задач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2854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Использую информационно-коммуникационные технологии в профессиональной деятельности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28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Творческие качеств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295280" y="1447920"/>
            <a:ext cx="6934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 меня преобладает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нтерес и любовь к детям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особность к сочувствию, сопереживанию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ртистизм, организаторские способности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мение ставить неожиданные вопросы и находить неожиданные ответы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здание проблемных ситуаций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ощрение учителем детского воображения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00200" y="837720"/>
            <a:ext cx="6732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Волонтер в </a:t>
            </a:r>
            <a:r>
              <a:rPr b="1" lang="en-US" sz="3900" spc="-1" strike="noStrike">
                <a:solidFill>
                  <a:srgbClr val="ff0000"/>
                </a:solidFill>
                <a:latin typeface="Gill Sans MT"/>
              </a:rPr>
              <a:t>Worldskill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78" name="Picture 2" descr="C:\Users\Наташа\Desktop\Все фото\все\5O1Ulblqwzk.jpg"/>
          <p:cNvPicPr/>
          <p:nvPr/>
        </p:nvPicPr>
        <p:blipFill>
          <a:blip r:embed="rId1"/>
          <a:stretch/>
        </p:blipFill>
        <p:spPr>
          <a:xfrm rot="20795400">
            <a:off x="303120" y="2205000"/>
            <a:ext cx="3702240" cy="27766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C:\Users\Наташа\Desktop\Все фото\все\GJPw5EsghVU.jpg"/>
          <p:cNvPicPr/>
          <p:nvPr/>
        </p:nvPicPr>
        <p:blipFill>
          <a:blip r:embed="rId2"/>
          <a:stretch/>
        </p:blipFill>
        <p:spPr>
          <a:xfrm>
            <a:off x="4495680" y="1447920"/>
            <a:ext cx="389412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752480" y="91440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СРЕДНИЙ БАЛ ЗА СЕМЕСТРЫ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81" name="Рисунок 3" descr=""/>
          <p:cNvPicPr/>
          <p:nvPr/>
        </p:nvPicPr>
        <p:blipFill>
          <a:blip r:embed="rId1"/>
          <a:srcRect l="47659" t="39769" r="14324" b="19277"/>
          <a:stretch/>
        </p:blipFill>
        <p:spPr>
          <a:xfrm>
            <a:off x="1122480" y="1371600"/>
            <a:ext cx="7792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619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Учебные и производственные практики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523880" y="2133720"/>
          <a:ext cx="6077160" cy="3084480"/>
        </p:xfrm>
        <a:graphic>
          <a:graphicData uri="http://schemas.openxmlformats.org/drawingml/2006/table">
            <a:tbl>
              <a:tblPr/>
              <a:tblGrid>
                <a:gridCol w="1519200"/>
                <a:gridCol w="1519560"/>
                <a:gridCol w="1519200"/>
                <a:gridCol w="1519200"/>
              </a:tblGrid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именование прак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ур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Место прохо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цен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П ПМ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БПОУ НСО «НПП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П ПМ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БПОУ НСО «НПП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П ПМ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КОУ Куриловская СО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П ПМ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БПОУ НСО «НПП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П ПМ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БПОУ НСО «НПП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П ПМ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БПОУ НСО «НПП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П ПМ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КОУ Куриловская СО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П ПМ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КОУ Куриловская СО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П ПМ. 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КОУ Куриловская СО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П ПМ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БПОУ НСО «НПП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Студент-204</cp:lastModifiedBy>
  <dcterms:modified xsi:type="dcterms:W3CDTF">2018-03-22T05:19:04Z</dcterms:modified>
  <cp:revision>172</cp:revision>
  <dc:subject/>
  <dc:title>Name of presentation</dc:title>
</cp:coreProperties>
</file>