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4.wmf" ContentType="image/x-wmf"/>
  <Override PartName="/ppt/media/image15.png" ContentType="image/png"/>
  <Override PartName="/ppt/media/image5.jpeg" ContentType="image/jpeg"/>
  <Override PartName="/ppt/media/image2.png" ContentType="image/png"/>
  <Override PartName="/ppt/media/image9.wmf" ContentType="image/x-wmf"/>
  <Override PartName="/ppt/media/image14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239B-FE1C-4E93-8435-DBB9165EB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2320" y="1244520"/>
            <a:ext cx="4473360" cy="3355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6D82-5760-412D-9615-349301903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746-1297-4563-B33E-D7C14D1D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A8F-2519-4627-B0CA-C6C0E653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8B7-FE13-4884-B626-FBDE5803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B0D-5BC1-471E-BDFC-9AAD13DA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DB1-57DB-4A44-B13B-BAAB632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77E-7389-4467-9217-6F40DFBE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878-1F8B-4E59-882C-2D70D8DC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C05-0AAC-4A76-A8AC-FAF1728C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878-9168-48D3-B70E-891C2CD7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BCD-4F95-4D17-B979-18A9C2A3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6B1-3940-4750-AE4B-E60751D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F21-BBD0-4381-B982-69616F4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3493-2258-46C5-A87C-2957F83BE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3"/>
          <p:cNvSpPr/>
          <p:nvPr/>
        </p:nvSpPr>
        <p:spPr>
          <a:xfrm>
            <a:off x="-11160" y="4809960"/>
            <a:ext cx="9145800" cy="200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ик 14"/>
          <p:cNvGrpSpPr/>
          <p:nvPr/>
        </p:nvGrpSpPr>
        <p:grpSpPr>
          <a:xfrm>
            <a:off x="-73080" y="4803840"/>
            <a:ext cx="9283680" cy="2109600"/>
            <a:chOff x="-73080" y="4803840"/>
            <a:chExt cx="9283680" cy="2109600"/>
          </a:xfrm>
        </p:grpSpPr>
        <p:pic>
          <p:nvPicPr>
            <p:cNvPr id="50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-73080" y="4803840"/>
              <a:ext cx="928368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4849920"/>
              <a:ext cx="914544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Блок-схема: задержка 15"/>
          <p:cNvSpPr/>
          <p:nvPr/>
        </p:nvSpPr>
        <p:spPr>
          <a:xfrm rot="5400000">
            <a:off x="3853440" y="-3891600"/>
            <a:ext cx="1414440" cy="9144000"/>
          </a:xfrm>
          <a:prstGeom prst="flowChartDelay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Блок-схема: задержка 16"/>
          <p:cNvGrpSpPr/>
          <p:nvPr/>
        </p:nvGrpSpPr>
        <p:grpSpPr>
          <a:xfrm>
            <a:off x="-73080" y="-60480"/>
            <a:ext cx="9259920" cy="1462320"/>
            <a:chOff x="-73080" y="-60480"/>
            <a:chExt cx="9259920" cy="1462320"/>
          </a:xfrm>
        </p:grpSpPr>
        <p:pic>
          <p:nvPicPr>
            <p:cNvPr id="54" name="Блок-схема: задержка 16" descr=""/>
            <p:cNvPicPr/>
            <p:nvPr/>
          </p:nvPicPr>
          <p:blipFill>
            <a:blip r:embed="rId3"/>
            <a:stretch/>
          </p:blipFill>
          <p:spPr>
            <a:xfrm>
              <a:off x="-73080" y="-60480"/>
              <a:ext cx="925992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5400000">
              <a:off x="3987000" y="-2686680"/>
              <a:ext cx="1146240" cy="64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10"/>
          <p:cNvSpPr/>
          <p:nvPr/>
        </p:nvSpPr>
        <p:spPr>
          <a:xfrm>
            <a:off x="0" y="2133720"/>
            <a:ext cx="914400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нклюзивное образовательное пространство Новосибирской области: цели, задачи, предварительные итоги и перспективы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17360" y="5157720"/>
            <a:ext cx="90010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Лузан Светлана Сергеевна,  к.п.н.,  директор  ГБПОУ НСО «Новосибирский профессионально-педагогический колледж» - базовая организация инклюзивно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5" descr="K:\Административно-канцелярская часть\1558298031-140737500332325_22e9.jpg"/>
          <p:cNvPicPr/>
          <p:nvPr/>
        </p:nvPicPr>
        <p:blipFill>
          <a:blip r:embed="rId6"/>
          <a:stretch/>
        </p:blipFill>
        <p:spPr>
          <a:xfrm>
            <a:off x="3865680" y="0"/>
            <a:ext cx="52783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1400" y="285840"/>
            <a:ext cx="6715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окументы, подтверждающие необходимос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я специальных услов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(ИПРА инвали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ИПР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валида и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ребенка-инвалида в части мероприятий по психолого-педагогической реабилитации или абилитации осуществляется с учетом заключения психолого-медико-педагогической комиссии о результатах проведенного обследования ребен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атываются и выдаются бюро МСЭ (медико-социальной экспертиз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12" descr=""/>
          <p:cNvPicPr/>
          <p:nvPr/>
        </p:nvPicPr>
        <p:blipFill>
          <a:blip r:embed="rId3"/>
          <a:srcRect l="34229" t="15542" r="37368" b="21959"/>
          <a:stretch/>
        </p:blipFill>
        <p:spPr>
          <a:xfrm>
            <a:off x="4071960" y="1214280"/>
            <a:ext cx="4379760" cy="53578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1" descr="lPdzQE4OdD0"/>
          <p:cNvPicPr/>
          <p:nvPr/>
        </p:nvPicPr>
        <p:blipFill>
          <a:blip r:embed="rId4"/>
          <a:stretch/>
        </p:blipFill>
        <p:spPr>
          <a:xfrm>
            <a:off x="823284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окументы, подтверждающие необходимос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я специальных услов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психолого-медико-педагогической комисс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" descr=""/>
          <p:cNvPicPr/>
          <p:nvPr/>
        </p:nvPicPr>
        <p:blipFill>
          <a:blip r:embed="rId1"/>
          <a:srcRect l="3187" t="0" r="1810" b="13880"/>
          <a:stretch/>
        </p:blipFill>
        <p:spPr>
          <a:xfrm>
            <a:off x="2284560" y="1600200"/>
            <a:ext cx="45748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Рисунок 21" descr="lPdzQE4OdD0"/>
          <p:cNvPicPr/>
          <p:nvPr/>
        </p:nvPicPr>
        <p:blipFill>
          <a:blip r:embed="rId4"/>
          <a:stretch/>
        </p:blipFill>
        <p:spPr>
          <a:xfrm>
            <a:off x="823284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67863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Вариативность форм образования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 обучаю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(п. 27 статьи 2, часть 4 статьи 79 ФЗ-273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Объект 1"/>
          <p:cNvGraphicFramePr/>
          <p:nvPr/>
        </p:nvGraphicFramePr>
        <p:xfrm>
          <a:off x="3571920" y="3071880"/>
          <a:ext cx="542916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3071880"/>
                    <a:ext cx="54291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Прямоугольник 4"/>
          <p:cNvSpPr/>
          <p:nvPr/>
        </p:nvSpPr>
        <p:spPr>
          <a:xfrm>
            <a:off x="5143680" y="1643040"/>
            <a:ext cx="34588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Соотношение количества обучающихся с ОВЗ 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общеобразовательных организация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в 2018 – 2019 уч.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42920" y="1643040"/>
            <a:ext cx="36432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Обеспечение равного доступа к образованию для всех обучающихся с учетом особых образовательных потреб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в отдельных организациях, осуществляющих коррекционную образовательн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в отдельных классах,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совместно с другими обучающим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Рисунок 21" descr="lPdzQE4OdD0"/>
          <p:cNvPicPr/>
          <p:nvPr/>
        </p:nvPicPr>
        <p:blipFill>
          <a:blip r:embed="rId5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Профстандарт 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«Педагог профессионального обучения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профессионального образования и доп.проф.образования»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утвержден приказом Минтруда России от 8 сентября 2015 г. № 608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85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каждый педагог должен знать и уметь применять психолого-педагогические технологии (в том числе инклюзивные), необходимые для адресной работы с различными контингентами обучающихся, в том числе с особыми образовательными потребностями (аутистами, с синдромом дефицита внимания и гиперактивностью и др.) и детьми с ограниченными возможностями здоровь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Рисунок 21" descr="lPdzQE4OdD0"/>
          <p:cNvPicPr/>
          <p:nvPr/>
        </p:nvPicPr>
        <p:blipFill>
          <a:blip r:embed="rId3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500040" y="4143240"/>
            <a:ext cx="2500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умение и не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д. работников применят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клюзивного образования в С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3500280" y="4143240"/>
            <a:ext cx="22672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сформированность доступной образовательно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бучающихся с инвалидностью и ОВЗ в С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6215040" y="4000680"/>
            <a:ext cx="2428920" cy="20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квидация в ПОО НСО кадрового дефиц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пециалист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еющих работать в инклюзии посредством системы наставничества и программ повышения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9"/>
          <p:cNvCxnSpPr/>
          <p:nvPr/>
        </p:nvCxnSpPr>
        <p:spPr>
          <a:xfrm>
            <a:off x="2999880" y="4785840"/>
            <a:ext cx="313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Прямая со стрелкой 10"/>
          <p:cNvCxnSpPr/>
          <p:nvPr/>
        </p:nvCxnSpPr>
        <p:spPr>
          <a:xfrm>
            <a:off x="5857560" y="4785840"/>
            <a:ext cx="313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Заголовок 7"/>
          <p:cNvSpPr/>
          <p:nvPr/>
        </p:nvSpPr>
        <p:spPr>
          <a:xfrm>
            <a:off x="2116080" y="235080"/>
            <a:ext cx="4977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9"/>
          <p:cNvSpPr/>
          <p:nvPr/>
        </p:nvSpPr>
        <p:spPr>
          <a:xfrm>
            <a:off x="262080" y="907920"/>
            <a:ext cx="8619840" cy="0"/>
          </a:xfrm>
          <a:prstGeom prst="line">
            <a:avLst/>
          </a:prstGeom>
          <a:ln w="57240">
            <a:solidFill>
              <a:srgbClr val="366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262080" y="65160"/>
          <a:ext cx="9000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65160"/>
                    <a:ext cx="900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Рисунок 21" descr="lPdzQE4OdD0"/>
          <p:cNvPicPr/>
          <p:nvPr/>
        </p:nvPicPr>
        <p:blipFill>
          <a:blip r:embed="rId3"/>
          <a:stretch/>
        </p:blipFill>
        <p:spPr>
          <a:xfrm>
            <a:off x="8102520" y="96840"/>
            <a:ext cx="779400" cy="749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s_luzan\Desktop\ФОТО НППК\АБИЛИМПИКС НСО\2018 год\17.10.2018. фестиваль «InclusivFest Всё могу!»\44171900_1224303744375674_5592355909713002496_n.jpg"/>
          <p:cNvPicPr/>
          <p:nvPr/>
        </p:nvPicPr>
        <p:blipFill>
          <a:blip r:embed="rId4"/>
          <a:stretch/>
        </p:blipFill>
        <p:spPr>
          <a:xfrm>
            <a:off x="160200" y="893880"/>
            <a:ext cx="4114800" cy="43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s_luzan\Desktop\ФОТО НППК\АБИЛИМПИКС НСО\2018 год\17.10.2018. фестиваль «InclusivFest Всё могу!»\44254830_1224303794375669_24722007849435136_n.jpg"/>
          <p:cNvPicPr/>
          <p:nvPr/>
        </p:nvPicPr>
        <p:blipFill>
          <a:blip r:embed="rId5"/>
          <a:stretch/>
        </p:blipFill>
        <p:spPr>
          <a:xfrm>
            <a:off x="4238640" y="907920"/>
            <a:ext cx="2544840" cy="352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s_luzan\Desktop\ФОТО НППК\АБИЛИМПИКС НСО\2018 год\17.10.2018. фестиваль «InclusivFest Всё могу!»\44118533_1224300944375954_6276951208246640640_n.jpg"/>
          <p:cNvPicPr/>
          <p:nvPr/>
        </p:nvPicPr>
        <p:blipFill>
          <a:blip r:embed="rId6"/>
          <a:stretch/>
        </p:blipFill>
        <p:spPr>
          <a:xfrm>
            <a:off x="147600" y="4052880"/>
            <a:ext cx="2967120" cy="280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s_luzan\Desktop\ФОТО НППК\АБИЛИМПИКС НСО\2018 год\17.10.2018. фестиваль «InclusivFest Всё могу!»\44177268_1224303144375734_4378411282131320832_n.jpg"/>
          <p:cNvPicPr/>
          <p:nvPr/>
        </p:nvPicPr>
        <p:blipFill>
          <a:blip r:embed="rId7"/>
          <a:stretch/>
        </p:blipFill>
        <p:spPr>
          <a:xfrm>
            <a:off x="5349960" y="4419720"/>
            <a:ext cx="379404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Users\s_luzan\Desktop\ФОТО НППК\АБИЛИМПИКС НСО\2018 год\17.10.2018. фестиваль «InclusivFest Всё могу!»\44170496_1224303694375679_4712443137987969024_n.jpg"/>
          <p:cNvPicPr/>
          <p:nvPr/>
        </p:nvPicPr>
        <p:blipFill>
          <a:blip r:embed="rId8"/>
          <a:stretch/>
        </p:blipFill>
        <p:spPr>
          <a:xfrm>
            <a:off x="6548400" y="971640"/>
            <a:ext cx="259560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0"/>
          <p:cNvSpPr/>
          <p:nvPr/>
        </p:nvSpPr>
        <p:spPr>
          <a:xfrm>
            <a:off x="1285920" y="0"/>
            <a:ext cx="6572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иоритет – профориентационная работа по вопросам профобразования людей с инвалидностью и ОВЗ: фестивали, мастер-классы, квест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C:\Users\s_luzan\Desktop\ФОТО НППК\АБИЛИМПИКС НСО\2018 год\17.10.2018. фестиваль «InclusivFest Всё могу!»\44240102_1224301044375944_3028763628074434560_n.jpg"/>
          <p:cNvPicPr/>
          <p:nvPr/>
        </p:nvPicPr>
        <p:blipFill>
          <a:blip r:embed="rId9"/>
          <a:stretch/>
        </p:blipFill>
        <p:spPr>
          <a:xfrm>
            <a:off x="2583000" y="4370400"/>
            <a:ext cx="275580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ект «Инклюзивная профориентация»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 2019 - 2020 го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004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 профориентационной работы с учетом технологий инклюзивного профессионального образования для обучающихся с ОВЗ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ида) специальных коррекционных школ г.Новосибир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пы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ориентационная работа с обучающимися с умственной отсталостью проводится в 2 этапа в сетевом взаимодействии со специальными коррекционными школами и профессиональными образовательными организациями г.Новосибир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этап. Профориентационная диагностика обучающихся с умственной отсталостью 10 классов на базе специальных коррекционных шко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этап. Формирование профессионального самоопределения  обучающихс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ида, с умственной отсталостью 10 классов специальных коррекционных школ г.Новосибирска с учетом технологий инклюзивного профессионально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дение профориентационных игр, профориентационных квестов, мастер-классов и др. с обучающимися СКШ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и проведение профессиональных проб и профориентационных экскурсий в профессиональные образовательные организации г. Новосибирс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ка совместно с родителями индивидуальных образовательных маршрутов для обучающихся по прохождению программ профессиональной подготов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Рисунок 21" descr="lPdzQE4OdD0"/>
          <p:cNvPicPr/>
          <p:nvPr/>
        </p:nvPicPr>
        <p:blipFill>
          <a:blip r:embed="rId3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20"/>
          <p:cNvSpPr/>
          <p:nvPr/>
        </p:nvSpPr>
        <p:spPr>
          <a:xfrm>
            <a:off x="262080" y="1052640"/>
            <a:ext cx="8619840" cy="0"/>
          </a:xfrm>
          <a:prstGeom prst="line">
            <a:avLst/>
          </a:prstGeom>
          <a:ln w="57240">
            <a:solidFill>
              <a:srgbClr val="fe8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21" descr=""/>
          <p:cNvPicPr/>
          <p:nvPr/>
        </p:nvPicPr>
        <p:blipFill>
          <a:blip r:embed="rId1"/>
          <a:stretch/>
        </p:blipFill>
        <p:spPr>
          <a:xfrm>
            <a:off x="255600" y="1006560"/>
            <a:ext cx="8632800" cy="450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32"/>
          <p:cNvSpPr/>
          <p:nvPr/>
        </p:nvSpPr>
        <p:spPr>
          <a:xfrm>
            <a:off x="262080" y="1125360"/>
            <a:ext cx="8619840" cy="0"/>
          </a:xfrm>
          <a:prstGeom prst="line">
            <a:avLst/>
          </a:prstGeom>
          <a:ln w="57240">
            <a:solidFill>
              <a:srgbClr val="366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Группа 39"/>
          <p:cNvGrpSpPr/>
          <p:nvPr/>
        </p:nvGrpSpPr>
        <p:grpSpPr>
          <a:xfrm>
            <a:off x="4505400" y="1052640"/>
            <a:ext cx="0" cy="1834920"/>
            <a:chOff x="4505400" y="1052640"/>
            <a:chExt cx="0" cy="1834920"/>
          </a:xfrm>
        </p:grpSpPr>
        <p:sp>
          <p:nvSpPr>
            <p:cNvPr id="65" name="Прямая соединительная линия 71"/>
            <p:cNvSpPr/>
            <p:nvPr/>
          </p:nvSpPr>
          <p:spPr>
            <a:xfrm>
              <a:off x="4505400" y="1052640"/>
              <a:ext cx="0" cy="1504080"/>
            </a:xfrm>
            <a:prstGeom prst="line">
              <a:avLst/>
            </a:prstGeom>
            <a:ln w="82440">
              <a:solidFill>
                <a:srgbClr val="005a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72"/>
            <p:cNvSpPr/>
            <p:nvPr/>
          </p:nvSpPr>
          <p:spPr>
            <a:xfrm>
              <a:off x="4505400" y="1161000"/>
              <a:ext cx="0" cy="1504080"/>
            </a:xfrm>
            <a:prstGeom prst="line">
              <a:avLst/>
            </a:prstGeom>
            <a:ln w="82440">
              <a:solidFill>
                <a:srgbClr val="1dbe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73"/>
            <p:cNvSpPr/>
            <p:nvPr/>
          </p:nvSpPr>
          <p:spPr>
            <a:xfrm>
              <a:off x="4505400" y="1274760"/>
              <a:ext cx="0" cy="1504080"/>
            </a:xfrm>
            <a:prstGeom prst="line">
              <a:avLst/>
            </a:prstGeom>
            <a:ln w="82440">
              <a:solidFill>
                <a:srgbClr val="acdf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80"/>
            <p:cNvSpPr/>
            <p:nvPr/>
          </p:nvSpPr>
          <p:spPr>
            <a:xfrm>
              <a:off x="4505400" y="1383480"/>
              <a:ext cx="0" cy="1504080"/>
            </a:xfrm>
            <a:prstGeom prst="line">
              <a:avLst/>
            </a:prstGeom>
            <a:ln w="82440">
              <a:solidFill>
                <a:srgbClr val="9ab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Нашивка 133"/>
          <p:cNvSpPr/>
          <p:nvPr/>
        </p:nvSpPr>
        <p:spPr>
          <a:xfrm flipV="1">
            <a:off x="5589720" y="6597000"/>
            <a:ext cx="272880" cy="260280"/>
          </a:xfrm>
          <a:custGeom>
            <a:avLst/>
            <a:gdLst>
              <a:gd name="textAreaLeft" fmla="*/ 0 w 272880"/>
              <a:gd name="textAreaRight" fmla="*/ 272880 w 272880"/>
              <a:gd name="textAreaTop" fmla="*/ -360 h 260280"/>
              <a:gd name="textAreaBottom" fmla="*/ 2602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44" y="0"/>
                </a:lnTo>
                <a:lnTo>
                  <a:pt x="21600" y="10800"/>
                </a:lnTo>
                <a:lnTo>
                  <a:pt x="10344" y="21600"/>
                </a:lnTo>
                <a:lnTo>
                  <a:pt x="0" y="21600"/>
                </a:lnTo>
                <a:lnTo>
                  <a:pt x="1125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7840" y="53640"/>
            <a:ext cx="685656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Calibri"/>
              </a:rPr>
              <a:t>Региональная базовая организация инклюзивного профессионального образования  - ГБПОУ НСО </a:t>
            </a:r>
            <a:br>
              <a:rPr sz="1800"/>
            </a:br>
            <a:r>
              <a:rPr b="1" lang="ru-RU" sz="1800" spc="-1" strike="noStrike">
                <a:solidFill>
                  <a:srgbClr val="6666ff"/>
                </a:solidFill>
                <a:latin typeface="Calibri"/>
              </a:rPr>
              <a:t>«Новосибирский профессионально-педагогический колледж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хема 43" descr=""/>
          <p:cNvPicPr/>
          <p:nvPr/>
        </p:nvPicPr>
        <p:blipFill>
          <a:blip r:embed="rId2"/>
          <a:stretch/>
        </p:blipFill>
        <p:spPr>
          <a:xfrm>
            <a:off x="365040" y="2352600"/>
            <a:ext cx="8474040" cy="41878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7" descr=""/>
          <p:cNvPicPr/>
          <p:nvPr/>
        </p:nvPicPr>
        <p:blipFill>
          <a:blip r:embed="rId3"/>
          <a:stretch/>
        </p:blipFill>
        <p:spPr>
          <a:xfrm>
            <a:off x="401760" y="1158840"/>
            <a:ext cx="8632800" cy="450720"/>
          </a:xfrm>
          <a:prstGeom prst="rect">
            <a:avLst/>
          </a:prstGeom>
          <a:ln w="0">
            <a:noFill/>
          </a:ln>
        </p:spPr>
      </p:pic>
      <p:sp>
        <p:nvSpPr>
          <p:cNvPr id="73" name="Выноска со стрелкой вниз 18"/>
          <p:cNvSpPr/>
          <p:nvPr/>
        </p:nvSpPr>
        <p:spPr>
          <a:xfrm>
            <a:off x="262080" y="1197000"/>
            <a:ext cx="8619840" cy="1079640"/>
          </a:xfrm>
          <a:prstGeom prst="downArrowCallout">
            <a:avLst>
              <a:gd name="adj1" fmla="val 0"/>
              <a:gd name="adj2" fmla="val 372216"/>
              <a:gd name="adj3" fmla="val 25000"/>
              <a:gd name="adj4" fmla="val 73181"/>
            </a:avLst>
          </a:prstGeom>
          <a:solidFill>
            <a:srgbClr val="3661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ивлечение абитуриентов с инвалидностью и ОВЗ к получению среднего профессионального образования в регионе и сопровождение инклюзивного образования в профессиональных образовательных организациях Новосиби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9"/>
          <p:cNvSpPr/>
          <p:nvPr/>
        </p:nvSpPr>
        <p:spPr>
          <a:xfrm>
            <a:off x="382680" y="3755880"/>
            <a:ext cx="1939680" cy="2643480"/>
          </a:xfrm>
          <a:custGeom>
            <a:avLst/>
            <a:gdLst>
              <a:gd name="textAreaLeft" fmla="*/ 94680 w 1939680"/>
              <a:gd name="textAreaRight" fmla="*/ 1845000 w 1939680"/>
              <a:gd name="textAreaTop" fmla="*/ 94680 h 2643480"/>
              <a:gd name="textAreaBottom" fmla="*/ 2548800 h 2643480"/>
            </a:gdLst>
            <a:ahLst/>
            <a:rect l="textAreaLeft" t="textAreaTop" r="textAreaRight" b="textAreaBottom"/>
            <a:pathLst>
              <a:path w="21600" h="29436">
                <a:moveTo>
                  <a:pt x="3600" y="0"/>
                </a:moveTo>
                <a:arcTo wR="3600" hR="3600" stAng="16200000" swAng="-5400000"/>
                <a:lnTo>
                  <a:pt x="0" y="25836"/>
                </a:lnTo>
                <a:arcTo wR="3600" hR="3600" stAng="10800000" swAng="-5400000"/>
                <a:lnTo>
                  <a:pt x="18000" y="29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рганизация приемной кампании 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 обучение по программам СПО и программам профессионального обуче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офконсультирование и диагно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«Горячая линия» по вопросам инклю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189000" y="101520"/>
          <a:ext cx="88884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9000" y="101520"/>
                    <a:ext cx="8888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Рисунок 21" descr="lPdzQE4OdD0"/>
          <p:cNvPicPr/>
          <p:nvPr/>
        </p:nvPicPr>
        <p:blipFill>
          <a:blip r:embed="rId6"/>
          <a:stretch/>
        </p:blipFill>
        <p:spPr>
          <a:xfrm>
            <a:off x="7934400" y="8244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9480" y="132840"/>
            <a:ext cx="702288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4961"/>
                </a:solidFill>
                <a:latin typeface="Trebuchet MS"/>
                <a:ea typeface="Tahoma"/>
              </a:rPr>
              <a:t>ИНКЛЮЗИВНОЕ ПРОФЕССИОНАЛЬНОЕ ОБРАЗОВАНИЕ НОВОСИБИР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887040"/>
            <a:ext cx="4253040" cy="29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46c0a"/>
                </a:solidFill>
                <a:latin typeface="Calibri"/>
              </a:rPr>
              <a:t>ДОСТИГНУТЫЕ РЕЗУЛЬТАТЫ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формирована сеть инклюзивного СПО: 1 БПОО, 28 ПОУ, реализующих адаптированные образовательные программы, 16 ПОУ – высокая степень готовности в части доступности образовательных услуг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бучалось в 2018-2019 учеб.году: 164 инвалида, 547 лиц с ОВЗ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беспечена информационно-методическая поддержка, в том числе через вебинары и сайт БПОО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nppk54.r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выше 700 человек педагогических и управленческих кадров СПО прошли обучение ДПО в сфере инклюзии за период 2016-2019 гг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остижения в Национальном чемпионате «Абилимпикс»: 2016г. – 3 медали, 2017г. – 6 медалей, 2018г. – 9 медалей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бъект 3"/>
          <p:cNvSpPr/>
          <p:nvPr/>
        </p:nvSpPr>
        <p:spPr>
          <a:xfrm>
            <a:off x="4648320" y="755640"/>
            <a:ext cx="403848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НАПРАВЛЕНИ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фориентация детей с инвалидностью и ОВЗ и взрослых инвали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тодическое сопровождение инклюзивного обу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действие трудоустройству выпускников с инвалидность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егиональный Чемпионат профмастерства для людей с инвалидностью и ОВЗ «Абилимпикс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бъект 3"/>
          <p:cNvSpPr/>
          <p:nvPr/>
        </p:nvSpPr>
        <p:spPr>
          <a:xfrm>
            <a:off x="4138560" y="3714840"/>
            <a:ext cx="5005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ДАЧИ на 2019-202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ирование единой среды непрерывного инклюзивного образования Новосибирской области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активизация усилий по проведению просветительской и профориентационной работы среди обучающихся из числа инвалидов/лиц с ОВЗ и их родителей, взрослых инвалид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и адаптация обучающихся с инвалидностью и ОВЗ в социуме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ирование «инклюзивной культуры» у педагогических и управленческих работников общеобразовательных и профессиональных образовательных организаций Новосибирской област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ражирование наставничества и др.форм лучших практик в рамках системы инклюзивного обуч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252360" y="133200"/>
          <a:ext cx="89712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33200"/>
                    <a:ext cx="8971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Рисунок 21" descr="lPdzQE4OdD0"/>
          <p:cNvPicPr/>
          <p:nvPr/>
        </p:nvPicPr>
        <p:blipFill>
          <a:blip r:embed="rId3"/>
          <a:stretch/>
        </p:blipFill>
        <p:spPr>
          <a:xfrm>
            <a:off x="8147160" y="73080"/>
            <a:ext cx="847440" cy="814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4"/>
          <a:stretch/>
        </p:blipFill>
        <p:spPr>
          <a:xfrm>
            <a:off x="198360" y="3822840"/>
            <a:ext cx="384012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69296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  <a:ea typeface="Tahoma"/>
              </a:rPr>
              <a:t>Перспективы развития  региональной системы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  <a:ea typeface="Tahoma"/>
              </a:rPr>
              <a:t>профессионального инклюзивного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857160"/>
            <a:ext cx="91440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е доступной среды в каждой ПОО, обеспечивающей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равные возмож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ля полноценного развития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обучающихся с нормой здоровья и с ограниченными возможност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беспечени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разработки и внедрения адаптированны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сновны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сиональных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образовательн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озволяющих осуществлять обучение,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коррекцию нарушений развития и социальную адаптацию лиц с инвалидностью и ОВЗ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специальных услов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ля получения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обучающимся с особыми образовательными потребностям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 инвалидностью и ОВ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в соответствии с индивидуальными психофизиологическими особенностями и склонност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Интеграция деятельности </a:t>
            </a:r>
            <a:r>
              <a:rPr b="0" lang="ru-RU" sz="2400" spc="-1" strike="noStrike">
                <a:solidFill>
                  <a:srgbClr val="0d1f35"/>
                </a:solidFill>
                <a:latin typeface="Calibri"/>
                <a:ea typeface="Tahoma"/>
              </a:rPr>
              <a:t>профессиональных образовательных организаций и общеобразовательных организаций Новосибирской области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 в сфере инклюз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1f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1f35"/>
                </a:solidFill>
                <a:latin typeface="Calibri"/>
                <a:ea typeface="Tahoma"/>
              </a:rPr>
              <a:t>Формирование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 «инклюзивной» культуры и повышение компетентности педагогических и управленческих работников образовательных организаций, </a:t>
            </a:r>
            <a:r>
              <a:rPr b="0" lang="ru-RU" sz="2400" spc="-1" strike="noStrike">
                <a:solidFill>
                  <a:srgbClr val="0d1f35"/>
                </a:solidFill>
                <a:latin typeface="Calibri"/>
                <a:ea typeface="Tahoma"/>
              </a:rPr>
              <a:t>а также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родителей (законных представител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) обучающихся с инвалидностью и ОВ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0" y="0"/>
          <a:ext cx="89676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7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Рисунок 21" descr="lPdzQE4OdD0"/>
          <p:cNvPicPr/>
          <p:nvPr/>
        </p:nvPicPr>
        <p:blipFill>
          <a:blip r:embed="rId3"/>
          <a:stretch/>
        </p:blipFill>
        <p:spPr>
          <a:xfrm>
            <a:off x="8232840" y="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бучающиеся с особыми образовательными потребностями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2560" y="1357200"/>
            <a:ext cx="4352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Инвалид – физическое лицо, которое имеет нарушение здоровья со стойким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 (ФЗ-18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00360" y="1428840"/>
            <a:ext cx="4429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Лицо с ограниченными возможностями здоровья - физическое лицо, имеющее недостатки в физическом и (или) психологическом развитии, подтвержденные ПМПК и препятствующие получению образования без создания специальных условий (ФЗ-27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Рисунок 21" descr="lPdzQE4OdD0"/>
          <p:cNvPicPr/>
          <p:nvPr/>
        </p:nvPicPr>
        <p:blipFill>
          <a:blip r:embed="rId3"/>
          <a:stretch/>
        </p:blipFill>
        <p:spPr>
          <a:xfrm>
            <a:off x="8232840" y="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сновные виды стойких нарушен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функций организма (нозологий) челове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Приказ Минтруда РФ от 13.06.2017 г. № 486Н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292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з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слу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одновременно функций зрения и слу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верхних конеч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нижних конеч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опорно-двигательного аппарата, вызывающее необходимость использования кресла- коляски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интелл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языковых и речевых функ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сердечно-сосудист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дыхательн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пищеварительн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 функций эндокринной системы и метабол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 функций системы крови и иммунн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мочевыделительной фун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 функций кожи и связанных с ней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, обусловленные физическим внешним урод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Рисунок 21" descr="lPdzQE4OdD0"/>
          <p:cNvPicPr/>
          <p:nvPr/>
        </p:nvPicPr>
        <p:blipFill>
          <a:blip r:embed="rId3"/>
          <a:stretch/>
        </p:blipFill>
        <p:spPr>
          <a:xfrm>
            <a:off x="800100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бучающиеся с ОВ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согласно 79 статье ФЗ-273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642960" y="1600200"/>
            <a:ext cx="2357280" cy="14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умственной отстал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нарушениями интеллек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Группа 5"/>
          <p:cNvGrpSpPr/>
          <p:nvPr/>
        </p:nvGrpSpPr>
        <p:grpSpPr>
          <a:xfrm>
            <a:off x="642960" y="3286080"/>
            <a:ext cx="2286000" cy="1457280"/>
            <a:chOff x="642960" y="3286080"/>
            <a:chExt cx="2286000" cy="1457280"/>
          </a:xfrm>
        </p:grpSpPr>
        <p:sp>
          <p:nvSpPr>
            <p:cNvPr id="107" name="Скругленный прямоугольник 6"/>
            <p:cNvSpPr/>
            <p:nvPr/>
          </p:nvSpPr>
          <p:spPr>
            <a:xfrm>
              <a:off x="642960" y="3286080"/>
              <a:ext cx="2286000" cy="14572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Скругленный прямоугольник 4"/>
            <p:cNvSpPr/>
            <p:nvPr/>
          </p:nvSpPr>
          <p:spPr>
            <a:xfrm>
              <a:off x="688680" y="3328920"/>
              <a:ext cx="2194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нарушениями слух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8"/>
          <p:cNvGrpSpPr/>
          <p:nvPr/>
        </p:nvGrpSpPr>
        <p:grpSpPr>
          <a:xfrm>
            <a:off x="714240" y="4857840"/>
            <a:ext cx="2357640" cy="1785960"/>
            <a:chOff x="714240" y="4857840"/>
            <a:chExt cx="2357640" cy="1785960"/>
          </a:xfrm>
        </p:grpSpPr>
        <p:sp>
          <p:nvSpPr>
            <p:cNvPr id="110" name="Скругленный прямоугольник 9"/>
            <p:cNvSpPr/>
            <p:nvPr/>
          </p:nvSpPr>
          <p:spPr>
            <a:xfrm>
              <a:off x="714240" y="4857840"/>
              <a:ext cx="2357640" cy="17859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Скругленный прямоугольник 4"/>
            <p:cNvSpPr/>
            <p:nvPr/>
          </p:nvSpPr>
          <p:spPr>
            <a:xfrm>
              <a:off x="782280" y="4906800"/>
              <a:ext cx="2221200" cy="16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нарушениями зре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11"/>
          <p:cNvGrpSpPr/>
          <p:nvPr/>
        </p:nvGrpSpPr>
        <p:grpSpPr>
          <a:xfrm>
            <a:off x="3500280" y="1571760"/>
            <a:ext cx="2203560" cy="1498320"/>
            <a:chOff x="3500280" y="1571760"/>
            <a:chExt cx="2203560" cy="1498320"/>
          </a:xfrm>
        </p:grpSpPr>
        <p:sp>
          <p:nvSpPr>
            <p:cNvPr id="113" name="Скругленный прямоугольник 12"/>
            <p:cNvSpPr/>
            <p:nvPr/>
          </p:nvSpPr>
          <p:spPr>
            <a:xfrm>
              <a:off x="3500280" y="1571760"/>
              <a:ext cx="2203560" cy="1498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Скругленный прямоугольник 4"/>
            <p:cNvSpPr/>
            <p:nvPr/>
          </p:nvSpPr>
          <p:spPr>
            <a:xfrm>
              <a:off x="3544560" y="1616040"/>
              <a:ext cx="211500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тяжелыми нарушениями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Группа 18"/>
          <p:cNvGrpSpPr/>
          <p:nvPr/>
        </p:nvGrpSpPr>
        <p:grpSpPr>
          <a:xfrm>
            <a:off x="3429000" y="3143160"/>
            <a:ext cx="2203560" cy="3229200"/>
            <a:chOff x="3429000" y="3143160"/>
            <a:chExt cx="2203560" cy="3229200"/>
          </a:xfrm>
        </p:grpSpPr>
        <p:sp>
          <p:nvSpPr>
            <p:cNvPr id="116" name="Скругленный прямоугольник 19"/>
            <p:cNvSpPr/>
            <p:nvPr/>
          </p:nvSpPr>
          <p:spPr>
            <a:xfrm>
              <a:off x="3429000" y="3143160"/>
              <a:ext cx="2203560" cy="3229200"/>
            </a:xfrm>
            <a:custGeom>
              <a:avLst/>
              <a:gdLst>
                <a:gd name="textAreaLeft" fmla="*/ 64440 w 2203560"/>
                <a:gd name="textAreaRight" fmla="*/ 2139120 w 2203560"/>
                <a:gd name="textAreaTop" fmla="*/ 64440 h 3229200"/>
                <a:gd name="textAreaBottom" fmla="*/ 3164760 h 3229200"/>
              </a:gdLst>
              <a:ahLst/>
              <a:rect l="textAreaLeft" t="textAreaTop" r="textAreaRight" b="textAreaBottom"/>
              <a:pathLst>
                <a:path w="21600" h="31652">
                  <a:moveTo>
                    <a:pt x="2160" y="0"/>
                  </a:moveTo>
                  <a:arcTo wR="2160" hR="2160" stAng="16200000" swAng="-5400000"/>
                  <a:lnTo>
                    <a:pt x="0" y="29492"/>
                  </a:lnTo>
                  <a:arcTo wR="2160" hR="2160" stAng="10800000" swAng="-5400000"/>
                  <a:lnTo>
                    <a:pt x="19440" y="31652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кругленный прямоугольник 4"/>
            <p:cNvSpPr/>
            <p:nvPr/>
          </p:nvSpPr>
          <p:spPr>
            <a:xfrm>
              <a:off x="3493800" y="3207960"/>
              <a:ext cx="2073600" cy="30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нарушениями опорно-двигательного аппарат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21"/>
          <p:cNvGrpSpPr/>
          <p:nvPr/>
        </p:nvGrpSpPr>
        <p:grpSpPr>
          <a:xfrm>
            <a:off x="6072120" y="1571760"/>
            <a:ext cx="2203560" cy="1498320"/>
            <a:chOff x="6072120" y="1571760"/>
            <a:chExt cx="2203560" cy="1498320"/>
          </a:xfrm>
        </p:grpSpPr>
        <p:sp>
          <p:nvSpPr>
            <p:cNvPr id="119" name="Скругленный прямоугольник 22"/>
            <p:cNvSpPr/>
            <p:nvPr/>
          </p:nvSpPr>
          <p:spPr>
            <a:xfrm>
              <a:off x="6072120" y="1571760"/>
              <a:ext cx="2203560" cy="1498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Скругленный прямоугольник 4"/>
            <p:cNvSpPr/>
            <p:nvPr/>
          </p:nvSpPr>
          <p:spPr>
            <a:xfrm>
              <a:off x="6116400" y="1616040"/>
              <a:ext cx="211500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расстройствами аутистического спект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Прямоугольник 24"/>
          <p:cNvSpPr/>
          <p:nvPr/>
        </p:nvSpPr>
        <p:spPr>
          <a:xfrm>
            <a:off x="6000840" y="3286080"/>
            <a:ext cx="2266920" cy="2054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 сложными деф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тяжелыми и множественными нарушениями развит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6000840" y="5429160"/>
            <a:ext cx="2295360" cy="12495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1" descr="lPdzQE4OdD0"/>
          <p:cNvPicPr/>
          <p:nvPr/>
        </p:nvPicPr>
        <p:blipFill>
          <a:blip r:embed="rId4"/>
          <a:stretch/>
        </p:blipFill>
        <p:spPr>
          <a:xfrm>
            <a:off x="7929720" y="28584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1434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условия для получения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бучающимися с ОВ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(согласно 79 статье ФЗ-273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образовательные программы и методы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учебники, учебные пособия и дидактические материал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технические средства обучения коллективного и индивидуального пользова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услуги ассистента (помощника), оказывающего обучающимся необходимую помощ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групповые и индивидуальные коррекционные занят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оступ в здания организаций, осуществляющих образовательную деятельн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ahoma"/>
              </a:rPr>
              <a:t>другие услов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, без которых невозможно или затруднено освоение образовательных программ обучающимися с ОВ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Рисунок 21" descr="lPdzQE4OdD0"/>
          <p:cNvPicPr/>
          <p:nvPr/>
        </p:nvPicPr>
        <p:blipFill>
          <a:blip r:embed="rId3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Адаптированная основна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сиональная образовательн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ФЗ № 273 «Об образовании в РФ»: «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ahoma"/>
              </a:rPr>
              <a:t>адаптированная образовательная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— образовательная программа, адаптированная для обуче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» (п.28 ч.1 ст.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рок освоени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О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увеличивается на 10 ме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О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разрабатывается образовательной организацией в соответствии с ФГОС  с учетом рекомендаций ПМП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Рисунок 21" descr="lPdzQE4OdD0"/>
          <p:cNvPicPr/>
          <p:nvPr/>
        </p:nvPicPr>
        <p:blipFill>
          <a:blip r:embed="rId3"/>
          <a:stretch/>
        </p:blipFill>
        <p:spPr>
          <a:xfrm>
            <a:off x="823284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12:17:36Z</dcterms:created>
  <dc:creator>Pavel</dc:creator>
  <dc:description/>
  <dc:language>en-US</dc:language>
  <cp:lastModifiedBy>s_luzan</cp:lastModifiedBy>
  <cp:lastPrinted>2017-04-24T14:41:14Z</cp:lastPrinted>
  <dcterms:modified xsi:type="dcterms:W3CDTF">2019-08-20T01:10:30Z</dcterms:modified>
  <cp:revision>429</cp:revision>
  <dc:subject/>
  <dc:title>Презентация PowerPoint</dc:title>
</cp:coreProperties>
</file>