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4.wmf" ContentType="image/x-wmf"/>
  <Override PartName="/ppt/media/image15.png" ContentType="image/png"/>
  <Override PartName="/ppt/media/image5.jpeg" ContentType="image/jpeg"/>
  <Override PartName="/ppt/media/image2.png" ContentType="image/png"/>
  <Override PartName="/ppt/media/image9.wmf" ContentType="image/x-wmf"/>
  <Override PartName="/ppt/media/image14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9ABF-A6D2-417D-9BAC-D6D7364E8A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2320" y="1244520"/>
            <a:ext cx="4473360" cy="3355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FA57-4EE7-43B8-BB6C-B4066E312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D22-3B2A-446C-9265-50EDAA13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B40-0001-4CD1-9B9A-BF7C2689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A53-1D45-4392-B2BB-E70F7545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065-FABA-4D5C-BB75-4D73FA68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E27-7137-49FD-8EDB-6C8776EB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BFD-DEC9-4E62-80AD-81E0806E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420-C839-49CC-BEDA-62276D77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82F-42EF-450D-A0B9-6034021F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BE3-63AF-415B-96E4-04A7C6B1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389-C5C3-457E-BFC3-7DCB7938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D36-99E9-49CD-A167-5C2B1C17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B5E-5A35-4CD8-8C4F-133003D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9D9C-1EFE-4D22-9597-51ACC1A81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3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3"/>
          <p:cNvSpPr/>
          <p:nvPr/>
        </p:nvSpPr>
        <p:spPr>
          <a:xfrm>
            <a:off x="-11160" y="4809960"/>
            <a:ext cx="9145800" cy="2003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ик 14"/>
          <p:cNvGrpSpPr/>
          <p:nvPr/>
        </p:nvGrpSpPr>
        <p:grpSpPr>
          <a:xfrm>
            <a:off x="-73080" y="4803840"/>
            <a:ext cx="9283680" cy="2109600"/>
            <a:chOff x="-73080" y="4803840"/>
            <a:chExt cx="9283680" cy="2109600"/>
          </a:xfrm>
        </p:grpSpPr>
        <p:pic>
          <p:nvPicPr>
            <p:cNvPr id="50" name="Прямоугольник 14" descr=""/>
            <p:cNvPicPr/>
            <p:nvPr/>
          </p:nvPicPr>
          <p:blipFill>
            <a:blip r:embed="rId2"/>
            <a:stretch/>
          </p:blipFill>
          <p:spPr>
            <a:xfrm>
              <a:off x="-73080" y="4803840"/>
              <a:ext cx="928368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4849920"/>
              <a:ext cx="914544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Блок-схема: задержка 15"/>
          <p:cNvSpPr/>
          <p:nvPr/>
        </p:nvSpPr>
        <p:spPr>
          <a:xfrm rot="5400000">
            <a:off x="3853440" y="-3891600"/>
            <a:ext cx="1414440" cy="9144000"/>
          </a:xfrm>
          <a:prstGeom prst="flowChartDelay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Блок-схема: задержка 16"/>
          <p:cNvGrpSpPr/>
          <p:nvPr/>
        </p:nvGrpSpPr>
        <p:grpSpPr>
          <a:xfrm>
            <a:off x="-73080" y="-60480"/>
            <a:ext cx="9259920" cy="1462320"/>
            <a:chOff x="-73080" y="-60480"/>
            <a:chExt cx="9259920" cy="1462320"/>
          </a:xfrm>
        </p:grpSpPr>
        <p:pic>
          <p:nvPicPr>
            <p:cNvPr id="54" name="Блок-схема: задержка 16" descr=""/>
            <p:cNvPicPr/>
            <p:nvPr/>
          </p:nvPicPr>
          <p:blipFill>
            <a:blip r:embed="rId3"/>
            <a:stretch/>
          </p:blipFill>
          <p:spPr>
            <a:xfrm>
              <a:off x="-73080" y="-60480"/>
              <a:ext cx="925992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5400000">
              <a:off x="3987000" y="-2686680"/>
              <a:ext cx="1146240" cy="64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10"/>
          <p:cNvSpPr/>
          <p:nvPr/>
        </p:nvSpPr>
        <p:spPr>
          <a:xfrm>
            <a:off x="0" y="2133720"/>
            <a:ext cx="914400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нклюзивное образовательное пространство Новосибирской области: цели, задачи, предварительные итоги и перспективы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17360" y="5157720"/>
            <a:ext cx="90010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Лузан Светлана Сергеевна,  к.п.н.,  директор  ГБПОУ НСО «Новосибирский профессионально-педагогический колледж» - базовая организация инклюзивного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2"/>
          <p:cNvGraphicFramePr/>
          <p:nvPr/>
        </p:nvGraphicFramePr>
        <p:xfrm>
          <a:off x="0" y="0"/>
          <a:ext cx="1193760" cy="116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1937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5" descr="K:\Административно-канцелярская часть\1558298031-140737500332325_22e9.jpg"/>
          <p:cNvPicPr/>
          <p:nvPr/>
        </p:nvPicPr>
        <p:blipFill>
          <a:blip r:embed="rId6"/>
          <a:stretch/>
        </p:blipFill>
        <p:spPr>
          <a:xfrm>
            <a:off x="3865680" y="0"/>
            <a:ext cx="527832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1400" y="285840"/>
            <a:ext cx="6715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Документы, подтверждающие необходимос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оздания специальных услов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(ИПРА инвали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ИПР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валида ил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ребенка-инвалида в части мероприятий по психолого-педагогической реабилитации или абилитации осуществляется с учетом заключения психолого-медико-педагогической комиссии о результатах проведенного обследования ребен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атываются и выдаются бюро МСЭ (медико-социальной экспертиз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Picture 12" descr=""/>
          <p:cNvPicPr/>
          <p:nvPr/>
        </p:nvPicPr>
        <p:blipFill>
          <a:blip r:embed="rId3"/>
          <a:srcRect l="34229" t="15542" r="37368" b="21959"/>
          <a:stretch/>
        </p:blipFill>
        <p:spPr>
          <a:xfrm>
            <a:off x="4071960" y="1214280"/>
            <a:ext cx="4379760" cy="53578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1" descr="lPdzQE4OdD0"/>
          <p:cNvPicPr/>
          <p:nvPr/>
        </p:nvPicPr>
        <p:blipFill>
          <a:blip r:embed="rId4"/>
          <a:stretch/>
        </p:blipFill>
        <p:spPr>
          <a:xfrm>
            <a:off x="8232840" y="21420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0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Документы, подтверждающие необходимос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оздания специальных услови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 психолого-медико-педагогической комисси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" descr=""/>
          <p:cNvPicPr/>
          <p:nvPr/>
        </p:nvPicPr>
        <p:blipFill>
          <a:blip r:embed="rId1"/>
          <a:srcRect l="3187" t="0" r="1810" b="13880"/>
          <a:stretch/>
        </p:blipFill>
        <p:spPr>
          <a:xfrm>
            <a:off x="2284560" y="1600200"/>
            <a:ext cx="45748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Рисунок 21" descr="lPdzQE4OdD0"/>
          <p:cNvPicPr/>
          <p:nvPr/>
        </p:nvPicPr>
        <p:blipFill>
          <a:blip r:embed="rId4"/>
          <a:stretch/>
        </p:blipFill>
        <p:spPr>
          <a:xfrm>
            <a:off x="8232840" y="21420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5560" y="214200"/>
            <a:ext cx="67863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Вариативность форм образования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 обучаю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(п. 27 статьи 2, часть 4 статьи 79 ФЗ-273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Объект 1"/>
          <p:cNvGraphicFramePr/>
          <p:nvPr/>
        </p:nvGraphicFramePr>
        <p:xfrm>
          <a:off x="3571920" y="3071880"/>
          <a:ext cx="542916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3071880"/>
                    <a:ext cx="54291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Прямоугольник 4"/>
          <p:cNvSpPr/>
          <p:nvPr/>
        </p:nvSpPr>
        <p:spPr>
          <a:xfrm>
            <a:off x="5143680" y="1643040"/>
            <a:ext cx="34588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Соотношение количества обучающихся с ОВЗ 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общеобразовательных организация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в 2018 – 2019 уч.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142920" y="1643040"/>
            <a:ext cx="36432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Обеспечение равного доступа к образованию для всех обучающихся с учетом особых образовательных потреб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в отдельных организациях, осуществляющих коррекционную образовательн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в отдельных классах, групп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совместно с другими обучающим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0" y="0"/>
          <a:ext cx="1193760" cy="11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937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Рисунок 21" descr="lPdzQE4OdD0"/>
          <p:cNvPicPr/>
          <p:nvPr/>
        </p:nvPicPr>
        <p:blipFill>
          <a:blip r:embed="rId5"/>
          <a:stretch/>
        </p:blipFill>
        <p:spPr>
          <a:xfrm>
            <a:off x="8072280" y="214200"/>
            <a:ext cx="91152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Профстандарт 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«Педагог профессионального обучения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профессионального образования и доп.проф.образования»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  <a:ea typeface="Tahoma"/>
              </a:rPr>
              <a:t>утвержден приказом Минтруда России от 8 сентября 2015 г. № 608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285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ahoma"/>
              </a:rPr>
              <a:t>каждый педагог должен знать и уметь применять психолого-педагогические технологии (в том числе инклюзивные), необходимые для адресной работы с различными контингентами обучающихся, в том числе с особыми образовательными потребностями (аутистами, с синдромом дефицита внимания и гиперактивностью и др.) и детьми с ограниченными возможностями здоровья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0" y="0"/>
          <a:ext cx="119376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937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Рисунок 21" descr="lPdzQE4OdD0"/>
          <p:cNvPicPr/>
          <p:nvPr/>
        </p:nvPicPr>
        <p:blipFill>
          <a:blip r:embed="rId3"/>
          <a:stretch/>
        </p:blipFill>
        <p:spPr>
          <a:xfrm>
            <a:off x="8072280" y="214200"/>
            <a:ext cx="911520" cy="8762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500040" y="4143240"/>
            <a:ext cx="2500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умение и не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д. работников применят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клюзивного образования в С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3500280" y="4143240"/>
            <a:ext cx="226728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сформированность доступной образовательной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бучающихся с инвалидностью и ОВЗ в С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6215040" y="4000680"/>
            <a:ext cx="2428920" cy="20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квидация в ПОО НСО кадрового дефиц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пециалист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еющих работать в инклюзии посредством системы наставничества и программ повышения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9"/>
          <p:cNvCxnSpPr/>
          <p:nvPr/>
        </p:nvCxnSpPr>
        <p:spPr>
          <a:xfrm>
            <a:off x="2999880" y="4785840"/>
            <a:ext cx="313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Прямая со стрелкой 10"/>
          <p:cNvCxnSpPr/>
          <p:nvPr/>
        </p:nvCxnSpPr>
        <p:spPr>
          <a:xfrm>
            <a:off x="5857560" y="4785840"/>
            <a:ext cx="313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Заголовок 7"/>
          <p:cNvSpPr/>
          <p:nvPr/>
        </p:nvSpPr>
        <p:spPr>
          <a:xfrm>
            <a:off x="2116080" y="235080"/>
            <a:ext cx="4977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9"/>
          <p:cNvSpPr/>
          <p:nvPr/>
        </p:nvSpPr>
        <p:spPr>
          <a:xfrm>
            <a:off x="262080" y="907920"/>
            <a:ext cx="8619840" cy="0"/>
          </a:xfrm>
          <a:prstGeom prst="line">
            <a:avLst/>
          </a:prstGeom>
          <a:ln w="57240">
            <a:solidFill>
              <a:srgbClr val="366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262080" y="65160"/>
          <a:ext cx="90000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65160"/>
                    <a:ext cx="900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Рисунок 21" descr="lPdzQE4OdD0"/>
          <p:cNvPicPr/>
          <p:nvPr/>
        </p:nvPicPr>
        <p:blipFill>
          <a:blip r:embed="rId3"/>
          <a:stretch/>
        </p:blipFill>
        <p:spPr>
          <a:xfrm>
            <a:off x="8102520" y="96840"/>
            <a:ext cx="779400" cy="749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Users\s_luzan\Desktop\ФОТО НППК\АБИЛИМПИКС НСО\2018 год\17.10.2018. фестиваль «InclusivFest Всё могу!»\44171900_1224303744375674_5592355909713002496_n.jpg"/>
          <p:cNvPicPr/>
          <p:nvPr/>
        </p:nvPicPr>
        <p:blipFill>
          <a:blip r:embed="rId4"/>
          <a:stretch/>
        </p:blipFill>
        <p:spPr>
          <a:xfrm>
            <a:off x="160200" y="893880"/>
            <a:ext cx="4114800" cy="430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Users\s_luzan\Desktop\ФОТО НППК\АБИЛИМПИКС НСО\2018 год\17.10.2018. фестиваль «InclusivFest Всё могу!»\44254830_1224303794375669_24722007849435136_n.jpg"/>
          <p:cNvPicPr/>
          <p:nvPr/>
        </p:nvPicPr>
        <p:blipFill>
          <a:blip r:embed="rId5"/>
          <a:stretch/>
        </p:blipFill>
        <p:spPr>
          <a:xfrm>
            <a:off x="4238640" y="907920"/>
            <a:ext cx="2544840" cy="3524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s_luzan\Desktop\ФОТО НППК\АБИЛИМПИКС НСО\2018 год\17.10.2018. фестиваль «InclusivFest Всё могу!»\44118533_1224300944375954_6276951208246640640_n.jpg"/>
          <p:cNvPicPr/>
          <p:nvPr/>
        </p:nvPicPr>
        <p:blipFill>
          <a:blip r:embed="rId6"/>
          <a:stretch/>
        </p:blipFill>
        <p:spPr>
          <a:xfrm>
            <a:off x="147600" y="4052880"/>
            <a:ext cx="2967120" cy="2805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s_luzan\Desktop\ФОТО НППК\АБИЛИМПИКС НСО\2018 год\17.10.2018. фестиваль «InclusivFest Всё могу!»\44177268_1224303144375734_4378411282131320832_n.jpg"/>
          <p:cNvPicPr/>
          <p:nvPr/>
        </p:nvPicPr>
        <p:blipFill>
          <a:blip r:embed="rId7"/>
          <a:stretch/>
        </p:blipFill>
        <p:spPr>
          <a:xfrm>
            <a:off x="5349960" y="4419720"/>
            <a:ext cx="3794040" cy="243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Users\s_luzan\Desktop\ФОТО НППК\АБИЛИМПИКС НСО\2018 год\17.10.2018. фестиваль «InclusivFest Всё могу!»\44170496_1224303694375679_4712443137987969024_n.jpg"/>
          <p:cNvPicPr/>
          <p:nvPr/>
        </p:nvPicPr>
        <p:blipFill>
          <a:blip r:embed="rId8"/>
          <a:stretch/>
        </p:blipFill>
        <p:spPr>
          <a:xfrm>
            <a:off x="6548400" y="971640"/>
            <a:ext cx="2595600" cy="34113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70"/>
          <p:cNvSpPr/>
          <p:nvPr/>
        </p:nvSpPr>
        <p:spPr>
          <a:xfrm>
            <a:off x="1285920" y="0"/>
            <a:ext cx="657216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риоритет – профориентационная работа по вопросам профобразования людей с инвалидностью и ОВЗ: фестивали, мастер-классы, квест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C:\Users\s_luzan\Desktop\ФОТО НППК\АБИЛИМПИКС НСО\2018 год\17.10.2018. фестиваль «InclusivFest Всё могу!»\44240102_1224301044375944_3028763628074434560_n.jpg"/>
          <p:cNvPicPr/>
          <p:nvPr/>
        </p:nvPicPr>
        <p:blipFill>
          <a:blip r:embed="rId9"/>
          <a:stretch/>
        </p:blipFill>
        <p:spPr>
          <a:xfrm>
            <a:off x="2583000" y="4370400"/>
            <a:ext cx="2755800" cy="2487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оект «Инклюзивная профориентация»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а 2019 - 2020 год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0004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а профориентационной работы с учетом технологий инклюзивного профессионального образования для обучающихся с ОВЗ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ида) специальных коррекционных школ г.Новосибир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апы про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ориентационная работа с обучающимися с умственной отсталостью проводится в 2 этапа в сетевом взаимодействии со специальными коррекционными школами и профессиональными образовательными организациями г.Новосибир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этап. Профориентационная диагностика обучающихся с умственной отсталостью 10 классов на базе специальных коррекционных шко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этап. Формирование профессионального самоопределения  обучающихс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ида, с умственной отсталостью 10 классов специальных коррекционных школ г.Новосибирска с учетом технологий инклюзивного профессионального образ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дение профориентационных игр, профориентационных квестов, мастер-классов и др. с обучающимися СКШ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и проведение профессиональных проб и профориентационных экскурсий в профессиональные образовательные организации г. Новосибирс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отка совместно с родителями индивидуальных образовательных маршрутов для обучающихся по прохождению программ профессиональной подготов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0" y="0"/>
          <a:ext cx="119376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937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Рисунок 21" descr="lPdzQE4OdD0"/>
          <p:cNvPicPr/>
          <p:nvPr/>
        </p:nvPicPr>
        <p:blipFill>
          <a:blip r:embed="rId3"/>
          <a:stretch/>
        </p:blipFill>
        <p:spPr>
          <a:xfrm>
            <a:off x="8072280" y="214200"/>
            <a:ext cx="91152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ая соединительная линия 20"/>
          <p:cNvSpPr/>
          <p:nvPr/>
        </p:nvSpPr>
        <p:spPr>
          <a:xfrm>
            <a:off x="262080" y="1052640"/>
            <a:ext cx="8619840" cy="0"/>
          </a:xfrm>
          <a:prstGeom prst="line">
            <a:avLst/>
          </a:prstGeom>
          <a:ln w="57240">
            <a:solidFill>
              <a:srgbClr val="fe8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extBox 21" descr=""/>
          <p:cNvPicPr/>
          <p:nvPr/>
        </p:nvPicPr>
        <p:blipFill>
          <a:blip r:embed="rId1"/>
          <a:stretch/>
        </p:blipFill>
        <p:spPr>
          <a:xfrm>
            <a:off x="255600" y="1006560"/>
            <a:ext cx="8632800" cy="4507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32"/>
          <p:cNvSpPr/>
          <p:nvPr/>
        </p:nvSpPr>
        <p:spPr>
          <a:xfrm>
            <a:off x="262080" y="1125360"/>
            <a:ext cx="8619840" cy="0"/>
          </a:xfrm>
          <a:prstGeom prst="line">
            <a:avLst/>
          </a:prstGeom>
          <a:ln w="57240">
            <a:solidFill>
              <a:srgbClr val="366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Группа 39"/>
          <p:cNvGrpSpPr/>
          <p:nvPr/>
        </p:nvGrpSpPr>
        <p:grpSpPr>
          <a:xfrm>
            <a:off x="4505400" y="1052640"/>
            <a:ext cx="0" cy="1834920"/>
            <a:chOff x="4505400" y="1052640"/>
            <a:chExt cx="0" cy="1834920"/>
          </a:xfrm>
        </p:grpSpPr>
        <p:sp>
          <p:nvSpPr>
            <p:cNvPr id="65" name="Прямая соединительная линия 71"/>
            <p:cNvSpPr/>
            <p:nvPr/>
          </p:nvSpPr>
          <p:spPr>
            <a:xfrm>
              <a:off x="4505400" y="1052640"/>
              <a:ext cx="0" cy="1504080"/>
            </a:xfrm>
            <a:prstGeom prst="line">
              <a:avLst/>
            </a:prstGeom>
            <a:ln w="82440">
              <a:solidFill>
                <a:srgbClr val="005a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ая соединительная линия 72"/>
            <p:cNvSpPr/>
            <p:nvPr/>
          </p:nvSpPr>
          <p:spPr>
            <a:xfrm>
              <a:off x="4505400" y="1161000"/>
              <a:ext cx="0" cy="1504080"/>
            </a:xfrm>
            <a:prstGeom prst="line">
              <a:avLst/>
            </a:prstGeom>
            <a:ln w="82440">
              <a:solidFill>
                <a:srgbClr val="1dbe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73"/>
            <p:cNvSpPr/>
            <p:nvPr/>
          </p:nvSpPr>
          <p:spPr>
            <a:xfrm>
              <a:off x="4505400" y="1274760"/>
              <a:ext cx="0" cy="1504080"/>
            </a:xfrm>
            <a:prstGeom prst="line">
              <a:avLst/>
            </a:prstGeom>
            <a:ln w="82440">
              <a:solidFill>
                <a:srgbClr val="acdf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ая соединительная линия 80"/>
            <p:cNvSpPr/>
            <p:nvPr/>
          </p:nvSpPr>
          <p:spPr>
            <a:xfrm>
              <a:off x="4505400" y="1383480"/>
              <a:ext cx="0" cy="1504080"/>
            </a:xfrm>
            <a:prstGeom prst="line">
              <a:avLst/>
            </a:prstGeom>
            <a:ln w="82440">
              <a:solidFill>
                <a:srgbClr val="9ab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Нашивка 133"/>
          <p:cNvSpPr/>
          <p:nvPr/>
        </p:nvSpPr>
        <p:spPr>
          <a:xfrm flipV="1">
            <a:off x="5589720" y="6597000"/>
            <a:ext cx="272880" cy="260280"/>
          </a:xfrm>
          <a:custGeom>
            <a:avLst/>
            <a:gdLst>
              <a:gd name="textAreaLeft" fmla="*/ 0 w 272880"/>
              <a:gd name="textAreaRight" fmla="*/ 272880 w 272880"/>
              <a:gd name="textAreaTop" fmla="*/ -360 h 260280"/>
              <a:gd name="textAreaBottom" fmla="*/ 2602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44" y="0"/>
                </a:lnTo>
                <a:lnTo>
                  <a:pt x="21600" y="10800"/>
                </a:lnTo>
                <a:lnTo>
                  <a:pt x="10344" y="21600"/>
                </a:lnTo>
                <a:lnTo>
                  <a:pt x="0" y="21600"/>
                </a:lnTo>
                <a:lnTo>
                  <a:pt x="1125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" rIns="309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7840" y="53640"/>
            <a:ext cx="685656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Calibri"/>
              </a:rPr>
              <a:t>Региональная базовая организация инклюзивного профессионального образования  - ГБПОУ НСО </a:t>
            </a:r>
            <a:br>
              <a:rPr sz="1800"/>
            </a:br>
            <a:r>
              <a:rPr b="1" lang="ru-RU" sz="1800" spc="-1" strike="noStrike">
                <a:solidFill>
                  <a:srgbClr val="6666ff"/>
                </a:solidFill>
                <a:latin typeface="Calibri"/>
              </a:rPr>
              <a:t>«Новосибирский профессионально-педагогический колледж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хема 43" descr=""/>
          <p:cNvPicPr/>
          <p:nvPr/>
        </p:nvPicPr>
        <p:blipFill>
          <a:blip r:embed="rId2"/>
          <a:stretch/>
        </p:blipFill>
        <p:spPr>
          <a:xfrm>
            <a:off x="365040" y="2352600"/>
            <a:ext cx="8474040" cy="41878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7" descr=""/>
          <p:cNvPicPr/>
          <p:nvPr/>
        </p:nvPicPr>
        <p:blipFill>
          <a:blip r:embed="rId3"/>
          <a:stretch/>
        </p:blipFill>
        <p:spPr>
          <a:xfrm>
            <a:off x="401760" y="1158840"/>
            <a:ext cx="8632800" cy="450720"/>
          </a:xfrm>
          <a:prstGeom prst="rect">
            <a:avLst/>
          </a:prstGeom>
          <a:ln w="0">
            <a:noFill/>
          </a:ln>
        </p:spPr>
      </p:pic>
      <p:sp>
        <p:nvSpPr>
          <p:cNvPr id="73" name="Выноска со стрелкой вниз 18"/>
          <p:cNvSpPr/>
          <p:nvPr/>
        </p:nvSpPr>
        <p:spPr>
          <a:xfrm>
            <a:off x="262080" y="1197000"/>
            <a:ext cx="8619840" cy="1079640"/>
          </a:xfrm>
          <a:prstGeom prst="downArrowCallout">
            <a:avLst>
              <a:gd name="adj1" fmla="val 0"/>
              <a:gd name="adj2" fmla="val 372216"/>
              <a:gd name="adj3" fmla="val 25000"/>
              <a:gd name="adj4" fmla="val 73181"/>
            </a:avLst>
          </a:prstGeom>
          <a:solidFill>
            <a:srgbClr val="3661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" rIns="309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ивлечение абитуриентов с инвалидностью и ОВЗ к получению среднего профессионального образования в регионе и сопровождение инклюзивного образования в профессиональных образовательных организациях Новосиби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9"/>
          <p:cNvSpPr/>
          <p:nvPr/>
        </p:nvSpPr>
        <p:spPr>
          <a:xfrm>
            <a:off x="382680" y="3755880"/>
            <a:ext cx="1939680" cy="2643480"/>
          </a:xfrm>
          <a:custGeom>
            <a:avLst/>
            <a:gdLst>
              <a:gd name="textAreaLeft" fmla="*/ 94680 w 1939680"/>
              <a:gd name="textAreaRight" fmla="*/ 1845000 w 1939680"/>
              <a:gd name="textAreaTop" fmla="*/ 94680 h 2643480"/>
              <a:gd name="textAreaBottom" fmla="*/ 2548800 h 2643480"/>
            </a:gdLst>
            <a:ahLst/>
            <a:rect l="textAreaLeft" t="textAreaTop" r="textAreaRight" b="textAreaBottom"/>
            <a:pathLst>
              <a:path w="21600" h="29436">
                <a:moveTo>
                  <a:pt x="3600" y="0"/>
                </a:moveTo>
                <a:arcTo wR="3600" hR="3600" stAng="16200000" swAng="-5400000"/>
                <a:lnTo>
                  <a:pt x="0" y="25836"/>
                </a:lnTo>
                <a:arcTo wR="3600" hR="3600" stAng="10800000" swAng="-5400000"/>
                <a:lnTo>
                  <a:pt x="18000" y="29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рганизация приемной кампании 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 обучение по программам СПО и программам профессионального обуче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рофконсультирование и диагно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«Горячая линия» по вопросам инклю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189000" y="101520"/>
          <a:ext cx="88884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9000" y="101520"/>
                    <a:ext cx="8888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Рисунок 21" descr="lPdzQE4OdD0"/>
          <p:cNvPicPr/>
          <p:nvPr/>
        </p:nvPicPr>
        <p:blipFill>
          <a:blip r:embed="rId6"/>
          <a:stretch/>
        </p:blipFill>
        <p:spPr>
          <a:xfrm>
            <a:off x="7934400" y="8244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9480" y="132840"/>
            <a:ext cx="702288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54961"/>
                </a:solidFill>
                <a:latin typeface="Trebuchet MS"/>
                <a:ea typeface="Tahoma"/>
              </a:rPr>
              <a:t>ИНКЛЮЗИВНОЕ ПРОФЕССИОНАЛЬНОЕ ОБРАЗОВАНИЕ НОВОСИБИР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280" y="887040"/>
            <a:ext cx="4253040" cy="29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e46c0a"/>
                </a:solidFill>
                <a:latin typeface="Calibri"/>
              </a:rPr>
              <a:t>ДОСТИГНУТЫЕ РЕЗУЛЬТАТЫ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формирована сеть инклюзивного СПО: 1 БПОО, 28 ПОУ, реализующих адаптированные образовательные программы, 16 ПОУ – высокая степень готовности в части доступности образовательных услуг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бучалось в 2018-2019 учеб.году: 164 инвалида, 547 лиц с ОВЗ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беспечена информационно-методическая поддержка, в том числе через вебинары и сайт БПОО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www.nppk54.r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выше 700 человек педагогических и управленческих кадров СПО прошли обучение ДПО в сфере инклюзии за период 2016-2019 гг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остижения в Национальном чемпионате «Абилимпикс»: 2016г. – 3 медали, 2017г. – 6 медалей, 2018г. – 9 медалей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Объект 3"/>
          <p:cNvSpPr/>
          <p:nvPr/>
        </p:nvSpPr>
        <p:spPr>
          <a:xfrm>
            <a:off x="4648320" y="755640"/>
            <a:ext cx="403848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НАПРАВЛЕНИ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фориентация детей с инвалидностью и ОВЗ и взрослых инвали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етодическое сопровождение инклюзивного обуч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одействие трудоустройству выпускников с инвалидность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егиональный Чемпионат профмастерства для людей с инвалидностью и ОВЗ «Абилимпикс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бъект 3"/>
          <p:cNvSpPr/>
          <p:nvPr/>
        </p:nvSpPr>
        <p:spPr>
          <a:xfrm>
            <a:off x="4138560" y="3714840"/>
            <a:ext cx="5005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ОСНО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ДАЧИ на 2019-202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Calibri"/>
              <a:buChar char="-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ирование единой среды непрерывного инклюзивного образования Новосибирской области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Calibri"/>
              <a:buChar char="-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активизация усилий по проведению просветительской и профориентационной работы среди обучающихся из числа инвалидов/лиц с ОВЗ и их родителей, взрослых инвалидов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Calibri"/>
              <a:buChar char="-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и адаптация обучающихся с инвалидностью и ОВЗ в социуме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Calibri"/>
              <a:buChar char="-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ирование «инклюзивной культуры» у педагогических и управленческих работников общеобразовательных и профессиональных образовательных организаций Новосибирской област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Calibri"/>
              <a:buChar char="-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ражирование наставничества и др.форм лучших практик в рамках системы инклюзивного обуч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2"/>
          <p:cNvGraphicFramePr/>
          <p:nvPr/>
        </p:nvGraphicFramePr>
        <p:xfrm>
          <a:off x="252360" y="133200"/>
          <a:ext cx="89712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33200"/>
                    <a:ext cx="8971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Рисунок 21" descr="lPdzQE4OdD0"/>
          <p:cNvPicPr/>
          <p:nvPr/>
        </p:nvPicPr>
        <p:blipFill>
          <a:blip r:embed="rId3"/>
          <a:stretch/>
        </p:blipFill>
        <p:spPr>
          <a:xfrm>
            <a:off x="8147160" y="73080"/>
            <a:ext cx="847440" cy="814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4"/>
          <a:stretch/>
        </p:blipFill>
        <p:spPr>
          <a:xfrm>
            <a:off x="198360" y="3822840"/>
            <a:ext cx="384012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69296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ed5"/>
                </a:solidFill>
                <a:latin typeface="Calibri"/>
                <a:ea typeface="Tahoma"/>
              </a:rPr>
              <a:t>Перспективы развития  региональной системы</a:t>
            </a:r>
            <a:br>
              <a:rPr sz="2400"/>
            </a:br>
            <a:r>
              <a:rPr b="1" lang="ru-RU" sz="2400" spc="-1" strike="noStrike">
                <a:solidFill>
                  <a:srgbClr val="558ed5"/>
                </a:solidFill>
                <a:latin typeface="Calibri"/>
                <a:ea typeface="Tahoma"/>
              </a:rPr>
              <a:t>профессионального инклюзивного 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857160"/>
            <a:ext cx="91440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оздание доступной среды в каждой ПОО, обеспечивающей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ahoma"/>
              </a:rPr>
              <a:t>равные возмож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для полноценного развития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ahoma"/>
              </a:rPr>
              <a:t>обучающихся с нормой здоровья и с ограниченными возможностя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Обеспечени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ahoma"/>
              </a:rPr>
              <a:t>разработки и внедрения адаптированны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основны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ессиональных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образовательн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озволяющих осуществлять обучение,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коррекцию нарушений развития и социальную адаптацию лиц с инвалидностью и ОВЗ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оздани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ahoma"/>
              </a:rPr>
              <a:t>специальных услов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для получения образования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ahoma"/>
              </a:rPr>
              <a:t>обучающимся с особыми образовательными потребностям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 инвалидностью и ОВ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в соответствии с индивидуальными психофизиологическими особенностями и склонностя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Calibri"/>
                <a:ea typeface="Tahoma"/>
              </a:rPr>
              <a:t>Интеграция деятельности </a:t>
            </a:r>
            <a:r>
              <a:rPr b="0" lang="ru-RU" sz="2400" spc="-1" strike="noStrike">
                <a:solidFill>
                  <a:srgbClr val="0d1f35"/>
                </a:solidFill>
                <a:latin typeface="Calibri"/>
                <a:ea typeface="Tahoma"/>
              </a:rPr>
              <a:t>профессиональных образовательных организаций и общеобразовательных организаций Новосибирской области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  <a:ea typeface="Tahoma"/>
              </a:rPr>
              <a:t> в сфере инклюз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1f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1f35"/>
                </a:solidFill>
                <a:latin typeface="Calibri"/>
                <a:ea typeface="Tahoma"/>
              </a:rPr>
              <a:t>Формирование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  <a:ea typeface="Tahoma"/>
              </a:rPr>
              <a:t> «инклюзивной» культуры и повышение компетентности педагогических и управленческих работников образовательных организаций, </a:t>
            </a:r>
            <a:r>
              <a:rPr b="0" lang="ru-RU" sz="2400" spc="-1" strike="noStrike">
                <a:solidFill>
                  <a:srgbClr val="0d1f35"/>
                </a:solidFill>
                <a:latin typeface="Calibri"/>
                <a:ea typeface="Tahoma"/>
              </a:rPr>
              <a:t>а также </a:t>
            </a:r>
            <a:r>
              <a:rPr b="0" lang="ru-RU" sz="2400" spc="-1" strike="noStrike">
                <a:solidFill>
                  <a:srgbClr val="a50021"/>
                </a:solidFill>
                <a:latin typeface="Calibri"/>
                <a:ea typeface="Tahoma"/>
              </a:rPr>
              <a:t>родителей (законных представител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) обучающихся с инвалидностью и ОВ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0" y="0"/>
          <a:ext cx="89676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76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Рисунок 21" descr="lPdzQE4OdD0"/>
          <p:cNvPicPr/>
          <p:nvPr/>
        </p:nvPicPr>
        <p:blipFill>
          <a:blip r:embed="rId3"/>
          <a:stretch/>
        </p:blipFill>
        <p:spPr>
          <a:xfrm>
            <a:off x="8232840" y="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Обучающиеся с особыми образовательными потребностями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2560" y="1357200"/>
            <a:ext cx="4352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Инвалид – физическое лицо, которое имеет нарушение здоровья со стойким расстройством функций организма, обусловленное заболеваниями, последствиями травм или дефектами, приводящее к ограничению жизнедеятельности и вызывающее необходимость его социальной защиты (ФЗ-18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00360" y="1428840"/>
            <a:ext cx="4429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Лицо с ограниченными возможностями здоровья - физическое лицо, имеющее недостатки в физическом и (или) психологическом развитии, подтвержденные ПМПК и препятствующие получению образования без создания специальных условий (ФЗ-27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0" y="0"/>
          <a:ext cx="119376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9376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Рисунок 21" descr="lPdzQE4OdD0"/>
          <p:cNvPicPr/>
          <p:nvPr/>
        </p:nvPicPr>
        <p:blipFill>
          <a:blip r:embed="rId3"/>
          <a:stretch/>
        </p:blipFill>
        <p:spPr>
          <a:xfrm>
            <a:off x="8232840" y="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Основные виды стойких нарушен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 функций организма (нозологий) челове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Приказ Минтруда РФ от 13.06.2017 г. № 486Н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2920" y="12855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з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слух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одновременно функций зрения и слух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верхних конеч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нижних конеч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опорно-двигательного аппарата, вызывающее необходимость использования кресла- коляски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интелл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языковых и речевых функ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сердечно-сосудистой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дыхательной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функции пищеварительной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я функций эндокринной системы и метабол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я функций системы крови и иммунной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е мочевыделительной функ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я функций кожи и связанных с ней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я, обусловленные физическим внешним урод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Рисунок 21" descr="lPdzQE4OdD0"/>
          <p:cNvPicPr/>
          <p:nvPr/>
        </p:nvPicPr>
        <p:blipFill>
          <a:blip r:embed="rId3"/>
          <a:stretch/>
        </p:blipFill>
        <p:spPr>
          <a:xfrm>
            <a:off x="8001000" y="21420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бучающиеся с ОВЗ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(согласно 79 статье ФЗ-273)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642960" y="1600200"/>
            <a:ext cx="2357280" cy="14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 умственной отстал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(нарушениями интеллек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Группа 5"/>
          <p:cNvGrpSpPr/>
          <p:nvPr/>
        </p:nvGrpSpPr>
        <p:grpSpPr>
          <a:xfrm>
            <a:off x="642960" y="3286080"/>
            <a:ext cx="2286000" cy="1457280"/>
            <a:chOff x="642960" y="3286080"/>
            <a:chExt cx="2286000" cy="1457280"/>
          </a:xfrm>
        </p:grpSpPr>
        <p:sp>
          <p:nvSpPr>
            <p:cNvPr id="107" name="Скругленный прямоугольник 6"/>
            <p:cNvSpPr/>
            <p:nvPr/>
          </p:nvSpPr>
          <p:spPr>
            <a:xfrm>
              <a:off x="642960" y="3286080"/>
              <a:ext cx="2286000" cy="14572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Скругленный прямоугольник 4"/>
            <p:cNvSpPr/>
            <p:nvPr/>
          </p:nvSpPr>
          <p:spPr>
            <a:xfrm>
              <a:off x="688680" y="3328920"/>
              <a:ext cx="21942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20" rIns="583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Calibri"/>
                </a:rPr>
                <a:t>С нарушениями слух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Группа 8"/>
          <p:cNvGrpSpPr/>
          <p:nvPr/>
        </p:nvGrpSpPr>
        <p:grpSpPr>
          <a:xfrm>
            <a:off x="714240" y="4857840"/>
            <a:ext cx="2357640" cy="1785960"/>
            <a:chOff x="714240" y="4857840"/>
            <a:chExt cx="2357640" cy="1785960"/>
          </a:xfrm>
        </p:grpSpPr>
        <p:sp>
          <p:nvSpPr>
            <p:cNvPr id="110" name="Скругленный прямоугольник 9"/>
            <p:cNvSpPr/>
            <p:nvPr/>
          </p:nvSpPr>
          <p:spPr>
            <a:xfrm>
              <a:off x="714240" y="4857840"/>
              <a:ext cx="2357640" cy="17859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Скругленный прямоугольник 4"/>
            <p:cNvSpPr/>
            <p:nvPr/>
          </p:nvSpPr>
          <p:spPr>
            <a:xfrm>
              <a:off x="782280" y="4906800"/>
              <a:ext cx="2221200" cy="16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20" rIns="583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Calibri"/>
                </a:rPr>
                <a:t>С нарушениями зрен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11"/>
          <p:cNvGrpSpPr/>
          <p:nvPr/>
        </p:nvGrpSpPr>
        <p:grpSpPr>
          <a:xfrm>
            <a:off x="3500280" y="1571760"/>
            <a:ext cx="2203560" cy="1498320"/>
            <a:chOff x="3500280" y="1571760"/>
            <a:chExt cx="2203560" cy="1498320"/>
          </a:xfrm>
        </p:grpSpPr>
        <p:sp>
          <p:nvSpPr>
            <p:cNvPr id="113" name="Скругленный прямоугольник 12"/>
            <p:cNvSpPr/>
            <p:nvPr/>
          </p:nvSpPr>
          <p:spPr>
            <a:xfrm>
              <a:off x="3500280" y="1571760"/>
              <a:ext cx="2203560" cy="14983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Скругленный прямоугольник 4"/>
            <p:cNvSpPr/>
            <p:nvPr/>
          </p:nvSpPr>
          <p:spPr>
            <a:xfrm>
              <a:off x="3544560" y="1616040"/>
              <a:ext cx="211500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20" rIns="583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Calibri"/>
                </a:rPr>
                <a:t>С тяжелыми нарушениями реч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Группа 18"/>
          <p:cNvGrpSpPr/>
          <p:nvPr/>
        </p:nvGrpSpPr>
        <p:grpSpPr>
          <a:xfrm>
            <a:off x="3429000" y="3143160"/>
            <a:ext cx="2203560" cy="3229200"/>
            <a:chOff x="3429000" y="3143160"/>
            <a:chExt cx="2203560" cy="3229200"/>
          </a:xfrm>
        </p:grpSpPr>
        <p:sp>
          <p:nvSpPr>
            <p:cNvPr id="116" name="Скругленный прямоугольник 19"/>
            <p:cNvSpPr/>
            <p:nvPr/>
          </p:nvSpPr>
          <p:spPr>
            <a:xfrm>
              <a:off x="3429000" y="3143160"/>
              <a:ext cx="2203560" cy="3229200"/>
            </a:xfrm>
            <a:custGeom>
              <a:avLst/>
              <a:gdLst>
                <a:gd name="textAreaLeft" fmla="*/ 64440 w 2203560"/>
                <a:gd name="textAreaRight" fmla="*/ 2139120 w 2203560"/>
                <a:gd name="textAreaTop" fmla="*/ 64440 h 3229200"/>
                <a:gd name="textAreaBottom" fmla="*/ 3164760 h 3229200"/>
              </a:gdLst>
              <a:ahLst/>
              <a:rect l="textAreaLeft" t="textAreaTop" r="textAreaRight" b="textAreaBottom"/>
              <a:pathLst>
                <a:path w="21600" h="31652">
                  <a:moveTo>
                    <a:pt x="2160" y="0"/>
                  </a:moveTo>
                  <a:arcTo wR="2160" hR="2160" stAng="16200000" swAng="-5400000"/>
                  <a:lnTo>
                    <a:pt x="0" y="29492"/>
                  </a:lnTo>
                  <a:arcTo wR="2160" hR="2160" stAng="10800000" swAng="-5400000"/>
                  <a:lnTo>
                    <a:pt x="19440" y="31652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Скругленный прямоугольник 4"/>
            <p:cNvSpPr/>
            <p:nvPr/>
          </p:nvSpPr>
          <p:spPr>
            <a:xfrm>
              <a:off x="3493800" y="3207960"/>
              <a:ext cx="2073600" cy="30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20" rIns="583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Calibri"/>
                </a:rPr>
                <a:t>С нарушениями опорно-двигательного аппарат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21"/>
          <p:cNvGrpSpPr/>
          <p:nvPr/>
        </p:nvGrpSpPr>
        <p:grpSpPr>
          <a:xfrm>
            <a:off x="6072120" y="1571760"/>
            <a:ext cx="2203560" cy="1498320"/>
            <a:chOff x="6072120" y="1571760"/>
            <a:chExt cx="2203560" cy="1498320"/>
          </a:xfrm>
        </p:grpSpPr>
        <p:sp>
          <p:nvSpPr>
            <p:cNvPr id="119" name="Скругленный прямоугольник 22"/>
            <p:cNvSpPr/>
            <p:nvPr/>
          </p:nvSpPr>
          <p:spPr>
            <a:xfrm>
              <a:off x="6072120" y="1571760"/>
              <a:ext cx="2203560" cy="14983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Скругленный прямоугольник 4"/>
            <p:cNvSpPr/>
            <p:nvPr/>
          </p:nvSpPr>
          <p:spPr>
            <a:xfrm>
              <a:off x="6116400" y="1616040"/>
              <a:ext cx="211500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20" rIns="583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Calibri"/>
                </a:rPr>
                <a:t>С расстройствами аутистического спектр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Прямоугольник 24"/>
          <p:cNvSpPr/>
          <p:nvPr/>
        </p:nvSpPr>
        <p:spPr>
          <a:xfrm>
            <a:off x="6000840" y="3286080"/>
            <a:ext cx="2266920" cy="2054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 сложными деф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тяжелыми и множественными нарушениями развит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6000840" y="5429160"/>
            <a:ext cx="2295360" cy="12495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1" descr="lPdzQE4OdD0"/>
          <p:cNvPicPr/>
          <p:nvPr/>
        </p:nvPicPr>
        <p:blipFill>
          <a:blip r:embed="rId4"/>
          <a:stretch/>
        </p:blipFill>
        <p:spPr>
          <a:xfrm>
            <a:off x="7929720" y="28584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1434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пециальные условия для получения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обучающимися с ОВЗ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(согласно 79 статье ФЗ-273)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пециальные образовательные программы и методы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пециальные учебники, учебные пособия и дидактические материал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пециальные технические средства обучения коллективного и индивидуального пользова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услуги ассистента (помощника), оказывающего обучающимся необходимую помощ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групповые и индивидуальные коррекционные занят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доступ в здания организаций, осуществляющих образовательную деятельнос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ahoma"/>
              </a:rPr>
              <a:t>другие услов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, без которых невозможно или затруднено освоение образовательных программ обучающимися с ОВ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Рисунок 21" descr="lPdzQE4OdD0"/>
          <p:cNvPicPr/>
          <p:nvPr/>
        </p:nvPicPr>
        <p:blipFill>
          <a:blip r:embed="rId3"/>
          <a:stretch/>
        </p:blipFill>
        <p:spPr>
          <a:xfrm>
            <a:off x="8072280" y="214200"/>
            <a:ext cx="91152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ahoma"/>
              </a:rPr>
              <a:t>Адаптированная основна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ессиональная образовательная програм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ФЗ № 273 «Об образовании в РФ»: «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ahoma"/>
              </a:rPr>
              <a:t>адаптированная образовательная 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 — образовательная программа, адаптированная для обучения лиц с ограниченными возможностями здоровья 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» (п.28 ч.1 ст.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рок освоени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ПО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увеличивается на 10 ме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ПО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разрабатывается образовательной организацией в соответствии с ФГОС  с учетом рекомендаций ПМП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Object 2"/>
          <p:cNvGraphicFramePr/>
          <p:nvPr/>
        </p:nvGraphicFramePr>
        <p:xfrm>
          <a:off x="142920" y="142920"/>
          <a:ext cx="119376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11937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Рисунок 21" descr="lPdzQE4OdD0"/>
          <p:cNvPicPr/>
          <p:nvPr/>
        </p:nvPicPr>
        <p:blipFill>
          <a:blip r:embed="rId3"/>
          <a:stretch/>
        </p:blipFill>
        <p:spPr>
          <a:xfrm>
            <a:off x="8232840" y="214200"/>
            <a:ext cx="9111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12:17:36Z</dcterms:created>
  <dc:creator>Pavel</dc:creator>
  <dc:description/>
  <dc:language>en-US</dc:language>
  <cp:lastModifiedBy>s_luzan</cp:lastModifiedBy>
  <cp:lastPrinted>2017-04-24T14:41:14Z</cp:lastPrinted>
  <dcterms:modified xsi:type="dcterms:W3CDTF">2019-08-20T01:10:30Z</dcterms:modified>
  <cp:revision>429</cp:revision>
  <dc:subject/>
  <dc:title>Презентация PowerPoint</dc:title>
</cp:coreProperties>
</file>